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C23-A456-4B90-9A1E-422DE784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D33-65D5-4B46-940C-9479988C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AA2-3857-448C-8434-C299CB6A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F2A6-7474-4B7A-8E30-D5181FCB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B5CD-12B1-4E5F-871B-CCDCE9BF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5D9F-DF1E-452D-B968-2CAADEBD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BB8F-502F-4F85-B713-C86132A7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63DB-EF7C-4D84-9D52-D92DC16C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1D83-878C-40B7-83E8-C56B7697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3F95-AA8E-434B-94B9-4B39AA44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F11A-FFF7-4A6E-BB0C-50B62DD6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E831-255F-4894-B583-F6139AC3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A1DF-1588-46FE-B40C-40B288EA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526C-BA26-4047-AF35-5F7FA959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3D60-DD50-4E79-A9FE-1CD0FF5F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9887-898A-42A3-BF90-6DF4B905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004F-BFE1-4F37-A338-0A354D41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0EE-2A6D-4639-88E7-F0985B80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872-D85E-4F77-B15E-3BA113B9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74A-B58C-43C5-9877-EE485315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0AC-9110-41D7-B84E-41637A93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FAD-73EA-4363-B045-26C1ADB2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CAB-65FD-4A08-9327-96AFCF77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565-3A8B-44D3-B8A9-14619245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766F-619E-4481-A304-DFBB185F6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E57F-0C73-4B14-9145-A42259586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133720"/>
            <a:ext cx="152388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513080" y="1372680"/>
            <a:ext cx="3058200" cy="3882600"/>
            <a:chOff x="1513080" y="1372680"/>
            <a:chExt cx="3058200" cy="3882600"/>
          </a:xfrm>
        </p:grpSpPr>
        <p:grpSp>
          <p:nvGrpSpPr>
            <p:cNvPr id="49" name=""/>
            <p:cNvGrpSpPr/>
            <p:nvPr/>
          </p:nvGrpSpPr>
          <p:grpSpPr>
            <a:xfrm>
              <a:off x="1513080" y="3810960"/>
              <a:ext cx="3058200" cy="1444320"/>
              <a:chOff x="1513080" y="3810960"/>
              <a:chExt cx="3058200" cy="1444320"/>
            </a:xfrm>
          </p:grpSpPr>
          <p:sp>
            <p:nvSpPr>
              <p:cNvPr id="50" name=""/>
              <p:cNvSpPr/>
              <p:nvPr/>
            </p:nvSpPr>
            <p:spPr>
              <a:xfrm>
                <a:off x="1513080" y="3886200"/>
                <a:ext cx="3047040" cy="136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" y="9511"/>
                    </a:moveTo>
                    <a:arcTo wR="10800" hR="10800" stAng="-10388783" swAng="10388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" y="9511"/>
                    </a:moveTo>
                    <a:arcTo wR="10800" hR="10800" stAng="-10388783" swAng="10388783"/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1524240" y="3810600"/>
                <a:ext cx="3047040" cy="136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" y="9511"/>
                    </a:moveTo>
                    <a:arcTo wR="10800" hR="10800" stAng="-10388783" swAng="10388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" y="9511"/>
                    </a:moveTo>
                    <a:arcTo wR="10800" hR="10800" stAng="-10388783" swAng="10388783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1513080" y="1372680"/>
              <a:ext cx="3058200" cy="3198960"/>
              <a:chOff x="1513080" y="1372680"/>
              <a:chExt cx="3058200" cy="3198960"/>
            </a:xfrm>
          </p:grpSpPr>
          <p:sp>
            <p:nvSpPr>
              <p:cNvPr id="53" name=""/>
              <p:cNvSpPr/>
              <p:nvPr/>
            </p:nvSpPr>
            <p:spPr>
              <a:xfrm>
                <a:off x="1523880" y="2133360"/>
                <a:ext cx="152424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1513080" y="1372680"/>
                <a:ext cx="3058200" cy="1446480"/>
                <a:chOff x="1513080" y="1372680"/>
                <a:chExt cx="3058200" cy="14464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513080" y="1447920"/>
                  <a:ext cx="304704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" y="9511"/>
                      </a:moveTo>
                      <a:arcTo wR="10800" hR="10800" stAng="-10388783" swAng="103887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" y="9511"/>
                      </a:moveTo>
                      <a:arcTo wR="10800" hR="10800" stAng="-10388783" swAng="10388783"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1524240" y="1371960"/>
                  <a:ext cx="304704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" y="9511"/>
                      </a:moveTo>
                      <a:arcTo wR="10800" hR="10800" stAng="-10388783" swAng="103887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" y="9511"/>
                      </a:moveTo>
                      <a:arcTo wR="10800" hR="10800" stAng="-10388783" swAng="10388783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math.edu.pl/" TargetMode="External"/><Relationship Id="rId2" Type="http://schemas.openxmlformats.org/officeDocument/2006/relationships/hyperlink" Target="http://www.matematykam.pl/rodzaje_bryl_obrotowych.html" TargetMode="External"/><Relationship Id="rId3" Type="http://schemas.openxmlformats.org/officeDocument/2006/relationships/hyperlink" Target="http://www.zs2ndg.szkolnastrona.p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0600" y="271764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1. Wal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8720" y="2954160"/>
            <a:ext cx="3828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2. Stoż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8080" y="3857760"/>
            <a:ext cx="435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3. Ku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27160" y="3414600"/>
            <a:ext cx="4343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0120" y="552600"/>
            <a:ext cx="78865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PODSTAWOWE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BRYŁY OBROT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863960" y="2174760"/>
          <a:ext cx="371808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3960" y="2174760"/>
                    <a:ext cx="37180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053-4721-41C1-BFD7-E9E8CD4958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icz objętość puszki w kształcie walca                 o długości średnicy 5cm i wysokości 10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= 10cm              d=5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24800" y="3381480"/>
            <a:ext cx="106668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7A1-8566-46E5-98D2-9A18AB7A0D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2- rozwiąz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85840" y="198108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am objętość puszki:        Obliczam promień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πr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r= ½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5= 2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π(2,5)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2 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                                H= 10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π6,25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62,5π cm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dp: Objętość puszki wynosi 62,5π cm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9D2-C20E-4B7B-9301-6CF50BF383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ZADANIE 3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Oblicz pole boczne i pole całkowite walca powstałego przez obrót prostokąta o bokach 3cm i 5cm wokół dłuższego bo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43120" y="3162240"/>
            <a:ext cx="106668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3357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752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99720" y="4513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14000" y="3813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120" y="5087880"/>
            <a:ext cx="78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Pb= 2πr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H      Pc = 2π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+2πr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51160" y="3078000"/>
            <a:ext cx="268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 =3      H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B62-838F-409A-8FBE-4C08E10CC2DA}" type="slidenum">
              <a:t>12</a:t>
            </a:fld>
          </a:p>
        </p:txBody>
      </p:sp>
    </p:spTree>
  </p:cSld>
  <p:transition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związanie do zadania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r</a:t>
            </a:r>
            <a:r>
              <a:rPr b="0" lang="pl-PL" sz="2800" spc="-1" strike="noStrike" baseline="30000">
                <a:solidFill>
                  <a:srgbClr val="000000"/>
                </a:solidFill>
                <a:latin typeface="Tempus Sans ITC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                  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+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5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+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*15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9+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15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30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 cm</a:t>
            </a:r>
            <a:r>
              <a:rPr b="0" lang="pl-PL" sz="2800" spc="-1" strike="noStrike" baseline="30000">
                <a:solidFill>
                  <a:srgbClr val="990000"/>
                </a:solidFill>
                <a:latin typeface="Tempus Sans ITC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48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 cm</a:t>
            </a:r>
            <a:r>
              <a:rPr b="0" lang="pl-PL" sz="28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6760" y="5019840"/>
            <a:ext cx="8543880" cy="337320"/>
          </a:xfrm>
          <a:prstGeom prst="rect">
            <a:avLst/>
          </a:prstGeom>
          <a:solidFill>
            <a:srgbClr val="cc66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Odp: Pole boczne walca wynosi 30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 cm</a:t>
            </a:r>
            <a:r>
              <a:rPr b="1" lang="pl-PL" sz="16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, natomiast pole całkowite wynosi 48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 cm</a:t>
            </a:r>
            <a:r>
              <a:rPr b="1" lang="pl-PL" sz="16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CB0-D021-4B31-B8AC-9F34ACA061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STOŻ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Powstaje przez obrót trójkąta prostokątnego ABC wokół przyprostokątn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dcinek CB nazywamy tworzącą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dcinek AB jest promieniem podstawy –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Koło o środku A jest podstaw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dcinek AC jest wysokością stożka -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844640"/>
            <a:ext cx="3048120" cy="335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4724280"/>
            <a:ext cx="3048120" cy="990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1828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5181480"/>
            <a:ext cx="761760" cy="45720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362320" y="1904760"/>
            <a:ext cx="76176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56386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32000" y="1523880"/>
            <a:ext cx="2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43000" y="50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C31-CFF9-47D1-84AD-9277F55808AA}" type="slidenum">
              <a:t>14</a:t>
            </a:fld>
          </a:p>
        </p:txBody>
      </p:sp>
    </p:spTree>
  </p:cSld>
  <p:transition advTm="8000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TOŻ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35760" y="1400040"/>
            <a:ext cx="738720" cy="4692240"/>
            <a:chOff x="2435760" y="1400040"/>
            <a:chExt cx="738720" cy="4692240"/>
          </a:xfrm>
        </p:grpSpPr>
        <p:sp>
          <p:nvSpPr>
            <p:cNvPr id="236" name=""/>
            <p:cNvSpPr/>
            <p:nvPr/>
          </p:nvSpPr>
          <p:spPr>
            <a:xfrm>
              <a:off x="2771640" y="1400040"/>
              <a:ext cx="0" cy="454320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46200" y="5170320"/>
              <a:ext cx="72828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08" y="5496"/>
                  </a:moveTo>
                  <a:arcTo wR="10800" hR="10800" stAng="-1764818" swAng="156023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08" y="5496"/>
                  </a:moveTo>
                  <a:arcTo wR="10800" hR="10800" stAng="-1764818" swAng="15602308"/>
                </a:path>
              </a:pathLst>
            </a:custGeom>
            <a:noFill/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171200">
              <a:off x="2315160" y="5599440"/>
              <a:ext cx="6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3440" y="1835280"/>
            <a:ext cx="1600200" cy="267156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43000" y="2463840"/>
            <a:ext cx="2246040" cy="652320"/>
            <a:chOff x="243000" y="2463840"/>
            <a:chExt cx="2246040" cy="652320"/>
          </a:xfrm>
        </p:grpSpPr>
        <p:sp>
          <p:nvSpPr>
            <p:cNvPr id="241" name=""/>
            <p:cNvSpPr/>
            <p:nvPr/>
          </p:nvSpPr>
          <p:spPr>
            <a:xfrm>
              <a:off x="243000" y="246384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wysokość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4440" y="2786040"/>
              <a:ext cx="14126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17720" y="2786040"/>
              <a:ext cx="571320" cy="330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538080" y="4814640"/>
            <a:ext cx="2065680" cy="1158120"/>
            <a:chOff x="3538080" y="4814640"/>
            <a:chExt cx="2065680" cy="1158120"/>
          </a:xfrm>
        </p:grpSpPr>
        <p:sp>
          <p:nvSpPr>
            <p:cNvPr id="245" name=""/>
            <p:cNvSpPr/>
            <p:nvPr/>
          </p:nvSpPr>
          <p:spPr>
            <a:xfrm>
              <a:off x="3882960" y="5635440"/>
              <a:ext cx="172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76480" y="5942160"/>
              <a:ext cx="13464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538080" y="4814640"/>
              <a:ext cx="338040" cy="1127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8840" y="3414600"/>
            <a:ext cx="1751400" cy="1944000"/>
            <a:chOff x="348840" y="3414600"/>
            <a:chExt cx="1751400" cy="1944000"/>
          </a:xfrm>
        </p:grpSpPr>
        <p:sp>
          <p:nvSpPr>
            <p:cNvPr id="249" name=""/>
            <p:cNvSpPr/>
            <p:nvPr/>
          </p:nvSpPr>
          <p:spPr>
            <a:xfrm>
              <a:off x="471600" y="5021280"/>
              <a:ext cx="162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tworząca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48840" y="3414600"/>
              <a:ext cx="1319400" cy="19195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5329080"/>
              <a:ext cx="158616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133960" y="1228680"/>
            <a:ext cx="36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żkiem nazywamy bryłę obrotową powstałą przez obrót trójkąta prostokątnego dookoła prostej zawierającej jedną z przyprostokąt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144800" y="1608120"/>
            <a:ext cx="3287160" cy="3511440"/>
            <a:chOff x="1144800" y="1608120"/>
            <a:chExt cx="3287160" cy="3511440"/>
          </a:xfrm>
        </p:grpSpPr>
        <p:grpSp>
          <p:nvGrpSpPr>
            <p:cNvPr id="254" name=""/>
            <p:cNvGrpSpPr/>
            <p:nvPr/>
          </p:nvGrpSpPr>
          <p:grpSpPr>
            <a:xfrm>
              <a:off x="1144800" y="1851120"/>
              <a:ext cx="3287160" cy="3268440"/>
              <a:chOff x="1144800" y="1851120"/>
              <a:chExt cx="3287160" cy="326844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1144800" y="1851120"/>
                <a:ext cx="3287160" cy="3268440"/>
                <a:chOff x="1144800" y="1851120"/>
                <a:chExt cx="3287160" cy="3268440"/>
              </a:xfrm>
            </p:grpSpPr>
            <p:grpSp>
              <p:nvGrpSpPr>
                <p:cNvPr id="256" name=""/>
                <p:cNvGrpSpPr/>
                <p:nvPr/>
              </p:nvGrpSpPr>
              <p:grpSpPr>
                <a:xfrm>
                  <a:off x="1144800" y="3851640"/>
                  <a:ext cx="3287160" cy="1267920"/>
                  <a:chOff x="1144800" y="3851640"/>
                  <a:chExt cx="3287160" cy="12679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135000">
                    <a:off x="1192680" y="3996360"/>
                    <a:ext cx="3219480" cy="1060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" y="9347"/>
                        </a:moveTo>
                        <a:arcTo wR="10800" hR="10800" stAng="-10335992" swAng="1033599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" y="9347"/>
                        </a:moveTo>
                        <a:arcTo wR="10800" hR="10800" stAng="-10335992" swAng="10335992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 rot="135000">
                    <a:off x="1164240" y="3914280"/>
                    <a:ext cx="3219480" cy="1060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9" y="9772"/>
                        </a:moveTo>
                        <a:arcTo wR="10800" hR="10800" stAng="-10472407" swAng="1047240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9" y="9772"/>
                        </a:moveTo>
                        <a:arcTo wR="10800" hR="10800" stAng="-10472407" swAng="10472407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9" name=""/>
                <p:cNvSpPr/>
                <p:nvPr/>
              </p:nvSpPr>
              <p:spPr>
                <a:xfrm flipH="1">
                  <a:off x="1171080" y="1851120"/>
                  <a:ext cx="1600200" cy="261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1187280" y="4495680"/>
                <a:ext cx="15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395360" y="1608120"/>
              <a:ext cx="2962440" cy="3224160"/>
              <a:chOff x="1395360" y="1608120"/>
              <a:chExt cx="2962440" cy="3224160"/>
            </a:xfrm>
          </p:grpSpPr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2665440" y="1752480"/>
                    <a:ext cx="244440" cy="24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263" name=""/>
              <p:cNvGrpSpPr/>
              <p:nvPr/>
            </p:nvGrpSpPr>
            <p:grpSpPr>
              <a:xfrm>
                <a:off x="1395360" y="1608120"/>
                <a:ext cx="2962440" cy="3224160"/>
                <a:chOff x="1395360" y="1608120"/>
                <a:chExt cx="2962440" cy="322416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2771640" y="1952640"/>
                  <a:ext cx="1586160" cy="2552760"/>
                  <a:chOff x="2771640" y="1952640"/>
                  <a:chExt cx="1586160" cy="255276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2771640" y="1952640"/>
                    <a:ext cx="0" cy="25527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771640" y="4505400"/>
                    <a:ext cx="1586160" cy="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3257640" y="4464000"/>
                  <a:ext cx="60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343240" y="3021120"/>
                  <a:ext cx="542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00"/>
                      </a:solidFill>
                      <a:latin typeface="Times New Roman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395360" y="3078000"/>
                  <a:ext cx="728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424320" y="3078000"/>
                  <a:ext cx="728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506680" y="1608120"/>
                  <a:ext cx="282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2" name=""/>
          <p:cNvGrpSpPr/>
          <p:nvPr/>
        </p:nvGrpSpPr>
        <p:grpSpPr>
          <a:xfrm>
            <a:off x="220680" y="1622520"/>
            <a:ext cx="2309760" cy="337320"/>
            <a:chOff x="220680" y="1622520"/>
            <a:chExt cx="2309760" cy="337320"/>
          </a:xfrm>
        </p:grpSpPr>
        <p:sp>
          <p:nvSpPr>
            <p:cNvPr id="273" name=""/>
            <p:cNvSpPr/>
            <p:nvPr/>
          </p:nvSpPr>
          <p:spPr>
            <a:xfrm>
              <a:off x="220680" y="1622520"/>
              <a:ext cx="186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wierzchołek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97200" y="1806480"/>
              <a:ext cx="6332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FDA-0CF1-4ED8-B280-DE6443F3E4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iatka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toż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12680" y="-1571760"/>
            <a:ext cx="5283000" cy="7172640"/>
            <a:chOff x="112680" y="-1571760"/>
            <a:chExt cx="5283000" cy="7172640"/>
          </a:xfrm>
        </p:grpSpPr>
        <p:grpSp>
          <p:nvGrpSpPr>
            <p:cNvPr id="277" name=""/>
            <p:cNvGrpSpPr/>
            <p:nvPr/>
          </p:nvGrpSpPr>
          <p:grpSpPr>
            <a:xfrm>
              <a:off x="112680" y="-1571760"/>
              <a:ext cx="5283000" cy="7172640"/>
              <a:chOff x="112680" y="-1571760"/>
              <a:chExt cx="5283000" cy="71726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112680" y="-1571760"/>
                <a:ext cx="5283000" cy="5686200"/>
                <a:chOff x="112680" y="-1571760"/>
                <a:chExt cx="5283000" cy="5686200"/>
              </a:xfrm>
            </p:grpSpPr>
            <p:sp>
              <p:nvSpPr>
                <p:cNvPr id="279" name=""/>
                <p:cNvSpPr/>
                <p:nvPr/>
              </p:nvSpPr>
              <p:spPr>
                <a:xfrm flipV="1">
                  <a:off x="112680" y="-1572120"/>
                  <a:ext cx="5283000" cy="568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54" y="6362"/>
                      </a:moveTo>
                      <a:arcTo wR="10800" hR="10800" stAng="-9344323" swAng="78874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54" y="6362"/>
                      </a:moveTo>
                      <a:arcTo wR="10800" hR="10800" stAng="-9344323" swAng="7887465"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313920" y="1257480"/>
                  <a:ext cx="2428920" cy="11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728800" y="1257480"/>
                  <a:ext cx="2443320" cy="11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986120" y="4129200"/>
                <a:ext cx="1471320" cy="147168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620800" y="4778280"/>
              <a:ext cx="694080" cy="550800"/>
              <a:chOff x="2620800" y="4778280"/>
              <a:chExt cx="694080" cy="550800"/>
            </a:xfrm>
          </p:grpSpPr>
          <p:sp>
            <p:nvSpPr>
              <p:cNvPr id="284" name=""/>
              <p:cNvSpPr/>
              <p:nvPr/>
            </p:nvSpPr>
            <p:spPr>
              <a:xfrm>
                <a:off x="2728800" y="4886280"/>
                <a:ext cx="586080" cy="4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5" name=""/>
                  <p:cNvSpPr txBox="1"/>
                  <p:nvPr/>
                </p:nvSpPr>
                <p:spPr>
                  <a:xfrm>
                    <a:off x="2620800" y="4778280"/>
                    <a:ext cx="244800" cy="24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86" name=""/>
          <p:cNvGrpSpPr/>
          <p:nvPr/>
        </p:nvGrpSpPr>
        <p:grpSpPr>
          <a:xfrm>
            <a:off x="857160" y="1652760"/>
            <a:ext cx="3714840" cy="3470760"/>
            <a:chOff x="857160" y="1652760"/>
            <a:chExt cx="3714840" cy="3470760"/>
          </a:xfrm>
        </p:grpSpPr>
        <p:sp>
          <p:nvSpPr>
            <p:cNvPr id="287" name=""/>
            <p:cNvSpPr/>
            <p:nvPr/>
          </p:nvSpPr>
          <p:spPr>
            <a:xfrm>
              <a:off x="2809800" y="4786200"/>
              <a:ext cx="5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57160" y="1700280"/>
              <a:ext cx="72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3360" y="1652760"/>
              <a:ext cx="72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2414520" y="3770280"/>
                  <a:ext cx="7286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1" name=""/>
          <p:cNvGrpSpPr/>
          <p:nvPr/>
        </p:nvGrpSpPr>
        <p:grpSpPr>
          <a:xfrm>
            <a:off x="3632040" y="4216320"/>
            <a:ext cx="5151240" cy="1634760"/>
            <a:chOff x="3632040" y="4216320"/>
            <a:chExt cx="5151240" cy="1634760"/>
          </a:xfrm>
        </p:grpSpPr>
        <p:sp>
          <p:nvSpPr>
            <p:cNvPr id="292" name=""/>
            <p:cNvSpPr/>
            <p:nvPr/>
          </p:nvSpPr>
          <p:spPr>
            <a:xfrm>
              <a:off x="3632040" y="4216320"/>
              <a:ext cx="51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Pole powierzchni całkowitej stożk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4041720" y="4901040"/>
                  <a:ext cx="3987720" cy="95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4" name=""/>
          <p:cNvGrpSpPr/>
          <p:nvPr/>
        </p:nvGrpSpPr>
        <p:grpSpPr>
          <a:xfrm>
            <a:off x="399960" y="5137200"/>
            <a:ext cx="1905120" cy="337320"/>
            <a:chOff x="399960" y="5137200"/>
            <a:chExt cx="1905120" cy="337320"/>
          </a:xfrm>
        </p:grpSpPr>
        <p:sp>
          <p:nvSpPr>
            <p:cNvPr id="295" name=""/>
            <p:cNvSpPr/>
            <p:nvPr/>
          </p:nvSpPr>
          <p:spPr>
            <a:xfrm>
              <a:off x="399960" y="513720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dstawa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2560" y="5446440"/>
              <a:ext cx="14814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893960" y="5208120"/>
              <a:ext cx="411120" cy="2379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572000" y="2563920"/>
            <a:ext cx="4287960" cy="337320"/>
            <a:chOff x="4572000" y="2563920"/>
            <a:chExt cx="4287960" cy="337320"/>
          </a:xfrm>
        </p:grpSpPr>
        <p:sp>
          <p:nvSpPr>
            <p:cNvPr id="299" name=""/>
            <p:cNvSpPr/>
            <p:nvPr/>
          </p:nvSpPr>
          <p:spPr>
            <a:xfrm>
              <a:off x="5789520" y="2563920"/>
              <a:ext cx="30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wierzchnia boczna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72000" y="2762640"/>
              <a:ext cx="11095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820-4DCF-463E-A9D3-EBF46EF496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PRZEKRÓJ OSIOWY STOŻ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47960" y="2933640"/>
            <a:ext cx="3809880" cy="2124000"/>
          </a:xfrm>
          <a:prstGeom prst="rect">
            <a:avLst/>
          </a:prstGeom>
          <a:noFill/>
          <a:ln w="41400">
            <a:solidFill>
              <a:srgbClr val="99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Przekrojem osiowym stożka jest trójkąt równoramien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2362320"/>
            <a:ext cx="3200400" cy="2666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4140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3200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68360" y="234936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285640" y="5029200"/>
            <a:ext cx="1600200" cy="0"/>
          </a:xfrm>
          <a:prstGeom prst="line">
            <a:avLst/>
          </a:prstGeom>
          <a:ln w="442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62320" y="4572000"/>
            <a:ext cx="3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9920" y="2819520"/>
            <a:ext cx="2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5280" y="2819520"/>
            <a:ext cx="2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85440" y="5029200"/>
            <a:ext cx="1600200" cy="0"/>
          </a:xfrm>
          <a:prstGeom prst="line">
            <a:avLst/>
          </a:prstGeom>
          <a:ln w="4140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19B-BB79-444A-9C09-729D4E4B821E}" type="slidenum">
              <a:t>17</a:t>
            </a:fld>
          </a:p>
        </p:txBody>
      </p:sp>
    </p:spTree>
  </p:cSld>
  <p:transition advTm="8000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743200" y="38862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19200" y="0"/>
            <a:ext cx="822960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Stożek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o promieniu r  i  wysokości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ma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3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razy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mniejszą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objętość niż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wale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o promieniu  podstawy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r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i  wysokości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384804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4229280"/>
            <a:ext cx="76176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91120" y="38862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4267080"/>
            <a:ext cx="76212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4267080"/>
            <a:ext cx="76176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14640" y="3276000"/>
            <a:ext cx="67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67160" y="3218760"/>
            <a:ext cx="38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327600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441972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1828440" y="3854520"/>
            <a:ext cx="1260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419720"/>
            <a:ext cx="3812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445788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12408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3886200"/>
            <a:ext cx="9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46840" y="3797280"/>
            <a:ext cx="752400" cy="803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43600" y="3774960"/>
            <a:ext cx="749160" cy="2383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6840" y="4365720"/>
            <a:ext cx="761760" cy="2379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448956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27720" y="3914640"/>
            <a:ext cx="0" cy="581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75B-0287-4D60-BB79-41D0ECBE98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3800520" y="3024360"/>
            <a:ext cx="4346280" cy="1548720"/>
            <a:chOff x="3800520" y="3024360"/>
            <a:chExt cx="4346280" cy="1548720"/>
          </a:xfrm>
        </p:grpSpPr>
        <p:sp>
          <p:nvSpPr>
            <p:cNvPr id="333" name=""/>
            <p:cNvSpPr/>
            <p:nvPr/>
          </p:nvSpPr>
          <p:spPr>
            <a:xfrm>
              <a:off x="3800520" y="3024360"/>
              <a:ext cx="290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Objętość stożk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3894120" y="3407760"/>
                  <a:ext cx="4252680" cy="11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5" name=""/>
          <p:cNvSpPr/>
          <p:nvPr/>
        </p:nvSpPr>
        <p:spPr>
          <a:xfrm>
            <a:off x="685800" y="2362320"/>
            <a:ext cx="3200400" cy="2666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4648320"/>
            <a:ext cx="3200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292120" y="50576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7440" y="238752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514760"/>
            <a:ext cx="4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97120" y="3749760"/>
            <a:ext cx="4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714240" y="504720"/>
            <a:ext cx="77724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jętość stoż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est trzy razy mniejsza od objętości walca o tym samym promieniu podstawy i wysokoś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463-5A3B-4416-A1AF-C7C9007020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Monotype Corsiva"/>
              </a:rPr>
              <a:t>Co to są bryły obrotowe?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99ff"/>
                </a:solidFill>
                <a:latin typeface="Copperplate Gothic Light"/>
              </a:rPr>
              <a:t>BRYŁY OBROTOWE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yły otrzymane    w wyniku obrotu figury płaskiej wokół prostej, zwanej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pperplate Gothic Light"/>
              </a:rPr>
              <a:t>osią obro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2286000"/>
            <a:ext cx="0" cy="4343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3048120"/>
            <a:ext cx="83808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35640" y="2514600"/>
            <a:ext cx="1055880" cy="990720"/>
          </a:xfrm>
          <a:custGeom>
            <a:avLst/>
            <a:gdLst>
              <a:gd name="textAreaLeft" fmla="*/ 141480 w 1055880"/>
              <a:gd name="textAreaRight" fmla="*/ 914400 w 1055880"/>
              <a:gd name="textAreaTop" fmla="*/ 176040 h 990720"/>
              <a:gd name="textAreaBottom" fmla="*/ 622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87" stAng="-5400000" swAng="5400000"/>
                <a:lnTo>
                  <a:pt x="21600" y="9721"/>
                </a:lnTo>
                <a:arcTo wR="21600" hR="7687" stAng="0" swAng="2711272"/>
                <a:lnTo>
                  <a:pt x="7200" y="21160"/>
                </a:lnTo>
                <a:lnTo>
                  <a:pt x="0" y="16391"/>
                </a:lnTo>
                <a:lnTo>
                  <a:pt x="7200" y="10742"/>
                </a:lnTo>
                <a:lnTo>
                  <a:pt x="7200" y="14934"/>
                </a:lnTo>
                <a:arcTo wR="21600" hR="7687" stAng="2711272" swAng="-2548099"/>
                <a:lnTo>
                  <a:pt x="21410" y="8704"/>
                </a:lnTo>
                <a:arcTo wR="21600" hR="7687" stAng="-163173" swAng="-5236827"/>
                <a:close/>
              </a:path>
              <a:path fill="darkenLess" w="21600" h="21600">
                <a:moveTo>
                  <a:pt x="0" y="0"/>
                </a:moveTo>
                <a:arcTo wR="21600" hR="7687" stAng="-5400000" swAng="5400000"/>
                <a:lnTo>
                  <a:pt x="21600" y="9721"/>
                </a:lnTo>
                <a:arcTo wR="21600" hR="7687" stAng="0" swAng="-163173"/>
                <a:lnTo>
                  <a:pt x="21410" y="8704"/>
                </a:lnTo>
                <a:arcTo wR="21600" hR="7687" stAng="-163173" swAng="-5236827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638680"/>
            <a:ext cx="381024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1905120"/>
            <a:ext cx="0" cy="3200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2895480"/>
            <a:ext cx="1218960" cy="1371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666880"/>
            <a:ext cx="533520" cy="381240"/>
          </a:xfrm>
          <a:custGeom>
            <a:avLst/>
            <a:gdLst>
              <a:gd name="textAreaLeft" fmla="*/ 71280 w 533520"/>
              <a:gd name="textAreaRight" fmla="*/ 462240 w 53352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2971800"/>
            <a:ext cx="10670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29600" y="2286000"/>
            <a:ext cx="0" cy="2514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53280" y="2514600"/>
            <a:ext cx="276480" cy="457200"/>
          </a:xfrm>
          <a:custGeom>
            <a:avLst/>
            <a:gdLst>
              <a:gd name="textAreaLeft" fmla="*/ 37080 w 276480"/>
              <a:gd name="textAreaRight" fmla="*/ 239400 w 2764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666880" y="4538520"/>
            <a:ext cx="1905120" cy="1100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66880" y="4148280"/>
            <a:ext cx="5562720" cy="1490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425-893A-4DEC-93A3-E57C8C66FE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ZADANIE  - STOŻ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 pole całkowite i objętość figury powstałej w wyniku obrotu trójkąta równobocznego o boku długości 6cm wokół wysok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l= 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r= 3cm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09600" y="3495600"/>
            <a:ext cx="1447920" cy="1143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09600" y="4505400"/>
            <a:ext cx="144792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38280" y="4267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46483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09760" y="2843280"/>
            <a:ext cx="4155840" cy="1158480"/>
            <a:chOff x="3209760" y="2843280"/>
            <a:chExt cx="4155840" cy="1158480"/>
          </a:xfrm>
        </p:grpSpPr>
        <p:sp>
          <p:nvSpPr>
            <p:cNvPr id="350" name=""/>
            <p:cNvSpPr/>
            <p:nvPr/>
          </p:nvSpPr>
          <p:spPr>
            <a:xfrm>
              <a:off x="3209760" y="2843280"/>
              <a:ext cx="27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3299040" y="3129840"/>
                  <a:ext cx="4066560" cy="87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2" name=""/>
          <p:cNvGrpSpPr/>
          <p:nvPr/>
        </p:nvGrpSpPr>
        <p:grpSpPr>
          <a:xfrm>
            <a:off x="2832120" y="4321080"/>
            <a:ext cx="5040000" cy="1329840"/>
            <a:chOff x="2832120" y="4321080"/>
            <a:chExt cx="5040000" cy="1329840"/>
          </a:xfrm>
        </p:grpSpPr>
        <p:sp>
          <p:nvSpPr>
            <p:cNvPr id="353" name=""/>
            <p:cNvSpPr/>
            <p:nvPr/>
          </p:nvSpPr>
          <p:spPr>
            <a:xfrm>
              <a:off x="2832120" y="4321080"/>
              <a:ext cx="50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3233160" y="4878000"/>
                  <a:ext cx="390168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85D-75E3-4642-9290-9734A2AB8B4A}" type="slidenum">
              <a:t>20</a:t>
            </a:fld>
          </a:p>
        </p:txBody>
      </p:sp>
    </p:spTree>
  </p:cSld>
  <p:transition advTm="8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– rozwiązanie – po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2964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= πr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+π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= π3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+3π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= π9+18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99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990000"/>
                </a:solidFill>
                <a:latin typeface="Tempus Sans ITC"/>
              </a:rPr>
              <a:t>= 27π cm</a:t>
            </a:r>
            <a:r>
              <a:rPr b="0" lang="pl-PL" sz="2400" spc="-1" strike="noStrike" baseline="30000">
                <a:solidFill>
                  <a:srgbClr val="990000"/>
                </a:solidFill>
                <a:latin typeface="Tempus Sans IT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21040" y="4290840"/>
            <a:ext cx="3633480" cy="459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e całkowite 27π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937-ECC4-4D54-8600-7400D641AC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– rozwiązanie - objętoś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2432160" cy="831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V=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π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empus Sans ITC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H</a:t>
            </a: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</a:t>
            </a:r>
            <a:r>
              <a:rPr b="0" lang="en-US" sz="800" spc="-1" strike="noStrike">
                <a:solidFill>
                  <a:srgbClr val="990000"/>
                </a:solidFill>
                <a:latin typeface="Tempus Sans IT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298520" y="1609560"/>
                <a:ext cx="3621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1881360" y="4684680"/>
            <a:ext cx="6402240" cy="52056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dp: Objętość stożka wynosi 18π cm</a:t>
            </a:r>
            <a:r>
              <a:rPr b="1" lang="pl-P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40" y="-7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546440" y="1766880"/>
                <a:ext cx="3114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723960" y="3216240"/>
                <a:ext cx="7135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F19-C068-481A-A57D-37A9EA7497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55320" y="181620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5400" spc="-1" strike="noStrike" u="sng">
                <a:solidFill>
                  <a:srgbClr val="0000b6"/>
                </a:solidFill>
                <a:uFillTx/>
                <a:latin typeface="Monotype Corsiva"/>
              </a:rPr>
              <a:t>KULĘ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otrzymujemy    obracając   koło   lub półko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Powierzchnia kuli to </a:t>
            </a:r>
            <a:r>
              <a:rPr b="0" i="1" lang="en-US" sz="3600" spc="-1" strike="noStrike">
                <a:solidFill>
                  <a:srgbClr val="ff00ff"/>
                </a:solidFill>
                <a:latin typeface="Monotype Corsiva"/>
              </a:rPr>
              <a:t>sfera</a:t>
            </a: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521240" y="262080"/>
          <a:ext cx="4381560" cy="31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262080"/>
                    <a:ext cx="438156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4876920" y="4064040"/>
            <a:ext cx="2209680" cy="220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0440" y="4902120"/>
            <a:ext cx="2209680" cy="4572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1160" y="5118120"/>
            <a:ext cx="1218960" cy="0"/>
          </a:xfrm>
          <a:prstGeom prst="line">
            <a:avLst/>
          </a:prstGeom>
          <a:ln w="38160">
            <a:solidFill>
              <a:srgbClr val="dc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91520" y="43052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Promie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552720" y="453384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CA3-B0C0-437E-A904-C86E1E5EBB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KU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830240" y="1386000"/>
            <a:ext cx="753840" cy="4819680"/>
            <a:chOff x="1830240" y="1386000"/>
            <a:chExt cx="753840" cy="4819680"/>
          </a:xfrm>
        </p:grpSpPr>
        <p:sp>
          <p:nvSpPr>
            <p:cNvPr id="378" name=""/>
            <p:cNvSpPr/>
            <p:nvPr/>
          </p:nvSpPr>
          <p:spPr>
            <a:xfrm>
              <a:off x="2233440" y="1386000"/>
              <a:ext cx="0" cy="481968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1830240" y="5281200"/>
              <a:ext cx="753840" cy="31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212" y="19358"/>
                  </a:moveTo>
                  <a:arcTo wR="10800" hR="10800" stAng="7655349" swAng="16767424"/>
                  <a:lnTo>
                    <a:pt x="10800" y="10800"/>
                  </a:lnTo>
                  <a:close/>
                </a:path>
                <a:path fill="none" w="21600" h="21600">
                  <a:moveTo>
                    <a:pt x="4212" y="19358"/>
                  </a:moveTo>
                  <a:arcTo wR="10800" hR="10800" stAng="7655349" swAng="16767424"/>
                </a:path>
              </a:pathLst>
            </a:custGeom>
            <a:noFill/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1788480" y="5526360"/>
              <a:ext cx="62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4440" y="1942920"/>
            <a:ext cx="3091320" cy="2942640"/>
            <a:chOff x="694440" y="1942920"/>
            <a:chExt cx="3091320" cy="2942640"/>
          </a:xfrm>
        </p:grpSpPr>
        <p:sp>
          <p:nvSpPr>
            <p:cNvPr id="382" name=""/>
            <p:cNvSpPr/>
            <p:nvPr/>
          </p:nvSpPr>
          <p:spPr>
            <a:xfrm>
              <a:off x="694440" y="1943280"/>
              <a:ext cx="3091320" cy="29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94440" y="1942200"/>
              <a:ext cx="3091320" cy="29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797040" y="1923480"/>
            <a:ext cx="2985840" cy="2982600"/>
            <a:chOff x="797040" y="1923480"/>
            <a:chExt cx="2985840" cy="2982600"/>
          </a:xfrm>
        </p:grpSpPr>
        <p:sp>
          <p:nvSpPr>
            <p:cNvPr id="385" name=""/>
            <p:cNvSpPr/>
            <p:nvPr/>
          </p:nvSpPr>
          <p:spPr>
            <a:xfrm>
              <a:off x="2239560" y="3429000"/>
              <a:ext cx="1528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797040" y="1923480"/>
              <a:ext cx="2985840" cy="2982600"/>
              <a:chOff x="797040" y="1923480"/>
              <a:chExt cx="2985840" cy="298260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797040" y="1923480"/>
                <a:ext cx="2985840" cy="2978640"/>
                <a:chOff x="797040" y="1923480"/>
                <a:chExt cx="2985840" cy="29786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797040" y="1942920"/>
                  <a:ext cx="2985840" cy="2943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803880" y="2759400"/>
                  <a:ext cx="2978280" cy="130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" y="9979"/>
                      </a:moveTo>
                      <a:arcTo wR="10800" hR="10800" stAng="-10538551" swAng="10538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" y="9979"/>
                      </a:moveTo>
                      <a:arcTo wR="10800" hR="10800" stAng="-10538551" swAng="1053855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rot="16200000">
                  <a:off x="788400" y="2759040"/>
                  <a:ext cx="2978640" cy="130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" y="9979"/>
                      </a:moveTo>
                      <a:arcTo wR="10800" hR="10800" stAng="-10538551" swAng="10538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" y="9979"/>
                      </a:moveTo>
                      <a:arcTo wR="10800" hR="10800" stAng="-10538551" swAng="1053855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 flipV="1" rot="16200000">
                <a:off x="732240" y="2763000"/>
                <a:ext cx="2978640" cy="13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" y="9979"/>
                    </a:moveTo>
                    <a:arcTo wR="10800" hR="10800" stAng="-10538551" swAng="105385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" y="9979"/>
                    </a:moveTo>
                    <a:arcTo wR="10800" hR="10800" stAng="-10538551" swAng="1053855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803880" y="2760480"/>
                <a:ext cx="2978280" cy="130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" y="9979"/>
                    </a:moveTo>
                    <a:arcTo wR="10800" hR="10800" stAng="-10538551" swAng="105385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" y="9979"/>
                    </a:moveTo>
                    <a:arcTo wR="10800" hR="10800" stAng="-10538551" swAng="1053855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" name=""/>
          <p:cNvSpPr/>
          <p:nvPr/>
        </p:nvSpPr>
        <p:spPr>
          <a:xfrm>
            <a:off x="3930480" y="1371600"/>
            <a:ext cx="483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ula jest bryłą obrotową powstałą przez obrót półkola dookoła prostej, w której zawarta jest średnica tego półk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92160" y="3092400"/>
            <a:ext cx="1463760" cy="560520"/>
            <a:chOff x="1892160" y="3092400"/>
            <a:chExt cx="1463760" cy="560520"/>
          </a:xfrm>
        </p:grpSpPr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2038320" y="3205080"/>
                  <a:ext cx="31104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396" name=""/>
            <p:cNvGrpSpPr/>
            <p:nvPr/>
          </p:nvGrpSpPr>
          <p:grpSpPr>
            <a:xfrm>
              <a:off x="1892160" y="3092400"/>
              <a:ext cx="1463760" cy="337320"/>
              <a:chOff x="1892160" y="3092400"/>
              <a:chExt cx="1463760" cy="337320"/>
            </a:xfrm>
          </p:grpSpPr>
          <p:sp>
            <p:nvSpPr>
              <p:cNvPr id="397" name=""/>
              <p:cNvSpPr/>
              <p:nvPr/>
            </p:nvSpPr>
            <p:spPr>
              <a:xfrm>
                <a:off x="1892160" y="3092400"/>
                <a:ext cx="39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068640" y="3092400"/>
                <a:ext cx="28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287280" y="3428640"/>
            <a:ext cx="2925720" cy="1872720"/>
            <a:chOff x="287280" y="3428640"/>
            <a:chExt cx="2925720" cy="1872720"/>
          </a:xfrm>
        </p:grpSpPr>
        <p:sp>
          <p:nvSpPr>
            <p:cNvPr id="400" name=""/>
            <p:cNvSpPr/>
            <p:nvPr/>
          </p:nvSpPr>
          <p:spPr>
            <a:xfrm>
              <a:off x="287280" y="496404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ku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6640" y="5238720"/>
              <a:ext cx="13050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103480" y="3428640"/>
              <a:ext cx="1109520" cy="18097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03040" y="1317600"/>
            <a:ext cx="1998720" cy="2097000"/>
            <a:chOff x="203040" y="1317600"/>
            <a:chExt cx="1998720" cy="2097000"/>
          </a:xfrm>
        </p:grpSpPr>
        <p:sp>
          <p:nvSpPr>
            <p:cNvPr id="404" name=""/>
            <p:cNvSpPr/>
            <p:nvPr/>
          </p:nvSpPr>
          <p:spPr>
            <a:xfrm>
              <a:off x="203040" y="131760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środek ku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9480" y="1579680"/>
              <a:ext cx="121428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09720" y="1579680"/>
              <a:ext cx="368280" cy="183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57440" y="469584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owierzchnię kuli nazywamy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fe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7C0-2D4B-44CB-8A53-145563FAFF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f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348200" y="1927080"/>
            <a:ext cx="2977200" cy="3003840"/>
            <a:chOff x="1348200" y="1927080"/>
            <a:chExt cx="2977200" cy="3003840"/>
          </a:xfrm>
        </p:grpSpPr>
        <p:grpSp>
          <p:nvGrpSpPr>
            <p:cNvPr id="410" name=""/>
            <p:cNvGrpSpPr/>
            <p:nvPr/>
          </p:nvGrpSpPr>
          <p:grpSpPr>
            <a:xfrm>
              <a:off x="2806560" y="1927080"/>
              <a:ext cx="5040" cy="3003840"/>
              <a:chOff x="2806560" y="1927080"/>
              <a:chExt cx="5040" cy="3003840"/>
            </a:xfrm>
          </p:grpSpPr>
          <p:sp>
            <p:nvSpPr>
              <p:cNvPr id="411" name=""/>
              <p:cNvSpPr/>
              <p:nvPr/>
            </p:nvSpPr>
            <p:spPr>
              <a:xfrm flipV="1">
                <a:off x="2811600" y="1927080"/>
                <a:ext cx="0" cy="1501920"/>
              </a:xfrm>
              <a:prstGeom prst="line">
                <a:avLst/>
              </a:prstGeom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806560" y="3429000"/>
                <a:ext cx="0" cy="1501920"/>
              </a:xfrm>
              <a:prstGeom prst="line">
                <a:avLst/>
              </a:prstGeom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348200" y="1937880"/>
              <a:ext cx="2977200" cy="2981520"/>
              <a:chOff x="1348200" y="1937880"/>
              <a:chExt cx="2977200" cy="2981520"/>
            </a:xfrm>
          </p:grpSpPr>
          <p:sp>
            <p:nvSpPr>
              <p:cNvPr id="414" name=""/>
              <p:cNvSpPr/>
              <p:nvPr/>
            </p:nvSpPr>
            <p:spPr>
              <a:xfrm>
                <a:off x="1348200" y="1938240"/>
                <a:ext cx="2977200" cy="29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9" y="0"/>
                    </a:moveTo>
                    <a:arcTo wR="10800" hR="10800" stAng="-5425794" swAng="54257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9" y="0"/>
                    </a:moveTo>
                    <a:arcTo wR="10800" hR="10800" stAng="-5425794" swAng="5425794"/>
                  </a:path>
                </a:pathLst>
              </a:custGeom>
              <a:noFill/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1348200" y="1937160"/>
                <a:ext cx="2977200" cy="29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9" y="0"/>
                    </a:moveTo>
                    <a:arcTo wR="10800" hR="10800" stAng="-5425794" swAng="54257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9" y="0"/>
                    </a:moveTo>
                    <a:arcTo wR="10800" hR="10800" stAng="-5425794" swAng="5425794"/>
                  </a:path>
                </a:pathLst>
              </a:custGeom>
              <a:noFill/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6" name=""/>
          <p:cNvGrpSpPr/>
          <p:nvPr/>
        </p:nvGrpSpPr>
        <p:grpSpPr>
          <a:xfrm>
            <a:off x="2604960" y="3078000"/>
            <a:ext cx="1392480" cy="603360"/>
            <a:chOff x="2604960" y="3078000"/>
            <a:chExt cx="1392480" cy="6033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2604960" y="3147840"/>
              <a:ext cx="4510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3736800" y="3078000"/>
              <a:ext cx="26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38600" y="3078000"/>
              <a:ext cx="3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495520" y="1317600"/>
            <a:ext cx="641160" cy="4886280"/>
            <a:chOff x="2495520" y="1317600"/>
            <a:chExt cx="641160" cy="4886280"/>
          </a:xfrm>
        </p:grpSpPr>
        <p:sp>
          <p:nvSpPr>
            <p:cNvPr id="421" name=""/>
            <p:cNvSpPr/>
            <p:nvPr/>
          </p:nvSpPr>
          <p:spPr>
            <a:xfrm flipH="1" flipV="1">
              <a:off x="2522520" y="5277240"/>
              <a:ext cx="61416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64" y="17903"/>
                  </a:moveTo>
                  <a:arcTo wR="10800" hR="10800" stAng="8332566" swAng="165449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664" y="17903"/>
                  </a:moveTo>
                  <a:arcTo wR="10800" hR="10800" stAng="8332566" swAng="16544928"/>
                </a:path>
              </a:pathLst>
            </a:custGeom>
            <a:noFill/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2495520" y="1317600"/>
              <a:ext cx="337320" cy="4886280"/>
              <a:chOff x="2495520" y="1317600"/>
              <a:chExt cx="337320" cy="4886280"/>
            </a:xfrm>
          </p:grpSpPr>
          <p:sp>
            <p:nvSpPr>
              <p:cNvPr id="423" name=""/>
              <p:cNvSpPr/>
              <p:nvPr/>
            </p:nvSpPr>
            <p:spPr>
              <a:xfrm>
                <a:off x="2808360" y="1317600"/>
                <a:ext cx="0" cy="488628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6200000">
                <a:off x="2481480" y="5801760"/>
                <a:ext cx="36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oś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1301760" y="1906200"/>
            <a:ext cx="3042720" cy="3043080"/>
            <a:chOff x="1301760" y="1906200"/>
            <a:chExt cx="3042720" cy="3043080"/>
          </a:xfrm>
        </p:grpSpPr>
        <p:sp>
          <p:nvSpPr>
            <p:cNvPr id="426" name=""/>
            <p:cNvSpPr/>
            <p:nvPr/>
          </p:nvSpPr>
          <p:spPr>
            <a:xfrm>
              <a:off x="2820960" y="3414600"/>
              <a:ext cx="1515960" cy="144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301760" y="1906200"/>
              <a:ext cx="3042720" cy="3043080"/>
              <a:chOff x="1301760" y="1906200"/>
              <a:chExt cx="3042720" cy="304308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317600" y="1937880"/>
                <a:ext cx="2976480" cy="2981520"/>
                <a:chOff x="1317600" y="1937880"/>
                <a:chExt cx="2976480" cy="2981520"/>
              </a:xfrm>
            </p:grpSpPr>
            <p:sp>
              <p:nvSpPr>
                <p:cNvPr id="429" name=""/>
                <p:cNvSpPr/>
                <p:nvPr/>
              </p:nvSpPr>
              <p:spPr>
                <a:xfrm flipH="1">
                  <a:off x="1317600" y="1938240"/>
                  <a:ext cx="2976480" cy="29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19" y="0"/>
                      </a:moveTo>
                      <a:arcTo wR="10800" hR="10800" stAng="-5425794" swAng="542579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19" y="0"/>
                      </a:moveTo>
                      <a:arcTo wR="10800" hR="10800" stAng="-5425794" swAng="5425794"/>
                    </a:path>
                  </a:pathLst>
                </a:custGeom>
                <a:noFill/>
                <a:ln w="921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flipV="1">
                  <a:off x="1317240" y="1937520"/>
                  <a:ext cx="2976480" cy="29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19" y="0"/>
                      </a:moveTo>
                      <a:arcTo wR="10800" hR="10800" stAng="-5425794" swAng="542579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19" y="0"/>
                      </a:moveTo>
                      <a:arcTo wR="10800" hR="10800" stAng="-5425794" swAng="5425794"/>
                    </a:path>
                  </a:pathLst>
                </a:custGeom>
                <a:noFill/>
                <a:ln w="921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1301760" y="1906200"/>
                <a:ext cx="3042720" cy="3043080"/>
                <a:chOff x="1301760" y="1906200"/>
                <a:chExt cx="3042720" cy="3043080"/>
              </a:xfrm>
            </p:grpSpPr>
            <p:grpSp>
              <p:nvGrpSpPr>
                <p:cNvPr id="432" name=""/>
                <p:cNvGrpSpPr/>
                <p:nvPr/>
              </p:nvGrpSpPr>
              <p:grpSpPr>
                <a:xfrm>
                  <a:off x="1301760" y="2751120"/>
                  <a:ext cx="3042720" cy="1355040"/>
                  <a:chOff x="1301760" y="2751120"/>
                  <a:chExt cx="3042720" cy="135504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358640" y="2751120"/>
                    <a:ext cx="2952000" cy="122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>
                    <a:off x="1301760" y="2884320"/>
                    <a:ext cx="3042720" cy="122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2169000" y="1906200"/>
                  <a:ext cx="1354320" cy="3043080"/>
                  <a:chOff x="2169000" y="1906200"/>
                  <a:chExt cx="1354320" cy="304308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rot="5400000">
                    <a:off x="1436400" y="2829600"/>
                    <a:ext cx="295236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 rot="5400000">
                    <a:off x="1257480" y="2817000"/>
                    <a:ext cx="304308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38" name=""/>
          <p:cNvSpPr/>
          <p:nvPr/>
        </p:nvSpPr>
        <p:spPr>
          <a:xfrm>
            <a:off x="4403880" y="1179360"/>
            <a:ext cx="455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00"/>
                </a:solidFill>
                <a:latin typeface="Times New Roman"/>
              </a:rPr>
              <a:t>Sfera jest to  powierzchnia powsta-jąca przez obrót półokręgu dookoła prostej, w której zawarta jest średnica tego półokręgu (zbiór wszystkich punktów przestrzeni, których odległość od punktu O jest równa 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14520" y="1789200"/>
            <a:ext cx="2206440" cy="1639800"/>
            <a:chOff x="614520" y="1789200"/>
            <a:chExt cx="2206440" cy="1639800"/>
          </a:xfrm>
        </p:grpSpPr>
        <p:sp>
          <p:nvSpPr>
            <p:cNvPr id="440" name=""/>
            <p:cNvSpPr/>
            <p:nvPr/>
          </p:nvSpPr>
          <p:spPr>
            <a:xfrm>
              <a:off x="614520" y="1789200"/>
              <a:ext cx="117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środek sf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2320" y="2063880"/>
              <a:ext cx="1084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36640" y="2063880"/>
              <a:ext cx="1084320" cy="1365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99880" y="3428640"/>
            <a:ext cx="3395880" cy="1780560"/>
            <a:chOff x="299880" y="3428640"/>
            <a:chExt cx="3395880" cy="1780560"/>
          </a:xfrm>
        </p:grpSpPr>
        <p:sp>
          <p:nvSpPr>
            <p:cNvPr id="444" name=""/>
            <p:cNvSpPr/>
            <p:nvPr/>
          </p:nvSpPr>
          <p:spPr>
            <a:xfrm>
              <a:off x="312840" y="4871880"/>
              <a:ext cx="17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sf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9880" y="5159520"/>
              <a:ext cx="12416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554120" y="3428640"/>
              <a:ext cx="2141640" cy="17305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854680" y="5060880"/>
            <a:ext cx="2438280" cy="971640"/>
            <a:chOff x="5854680" y="5060880"/>
            <a:chExt cx="2438280" cy="971640"/>
          </a:xfrm>
        </p:grpSpPr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5854680" y="5473800"/>
                  <a:ext cx="22003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49" name=""/>
            <p:cNvSpPr/>
            <p:nvPr/>
          </p:nvSpPr>
          <p:spPr>
            <a:xfrm>
              <a:off x="5854680" y="50608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Pole sfer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CDB-A3A5-4E0D-B05C-B6E051C716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ff0000"/>
                </a:solidFill>
                <a:latin typeface="Times New Roman"/>
              </a:rPr>
              <a:t>ZADANIE  </a:t>
            </a:r>
            <a:endParaRPr b="0" lang="en-US" sz="8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rzekrój osiowy kuli ma pole powierzchni równe 16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π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cm</a:t>
            </a:r>
            <a:r>
              <a:rPr b="1" lang="en-US" sz="40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Oblicz pole powierzchni kuli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187280" y="3927600"/>
            <a:ext cx="3133440" cy="1314000"/>
            <a:chOff x="1187280" y="3927600"/>
            <a:chExt cx="3133440" cy="1314000"/>
          </a:xfrm>
        </p:grpSpPr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1187280" y="4485960"/>
                  <a:ext cx="2827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54" name=""/>
            <p:cNvSpPr/>
            <p:nvPr/>
          </p:nvSpPr>
          <p:spPr>
            <a:xfrm>
              <a:off x="1187280" y="3927600"/>
              <a:ext cx="31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AA1-E665-4580-A919-35B3A90ACC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ROZWIĄZANIE DO ZADANI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62120" y="2142720"/>
            <a:ext cx="761976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= 16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2         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Pc = 4 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16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Pc = 64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Odp:  Powierzchnia całkowita kuli (powierzchnia sfery) wyno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                             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64 </a:t>
            </a:r>
            <a:r>
              <a:rPr b="1" lang="pl-PL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π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 cm</a:t>
            </a:r>
            <a:r>
              <a:rPr b="1" lang="pl-PL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254-F1A1-4915-9D39-5DB4565A73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04920" y="38862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43200" y="38862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67280" y="3581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Kula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 o promieniu r ma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4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razy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większą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objętość niż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stożek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 o promieniu  podstawy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r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i  wysokości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47920" y="384804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4229280"/>
            <a:ext cx="76176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91120" y="38862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43200" y="4267080"/>
            <a:ext cx="76212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91120" y="4267080"/>
            <a:ext cx="76176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14640" y="3276000"/>
            <a:ext cx="67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67160" y="3218760"/>
            <a:ext cx="38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327600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828800" y="441972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82880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3809880"/>
            <a:ext cx="83844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4080" y="4419720"/>
            <a:ext cx="3812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24480" y="4038480"/>
            <a:ext cx="3812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0" y="445788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12408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3886200"/>
            <a:ext cx="9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2448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920" y="4267080"/>
            <a:ext cx="76176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8580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444492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3960" y="323784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705120" y="4724280"/>
            <a:ext cx="7440480" cy="1949040"/>
            <a:chOff x="3705120" y="4724280"/>
            <a:chExt cx="7440480" cy="1949040"/>
          </a:xfrm>
        </p:grpSpPr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3766680" y="5368680"/>
                  <a:ext cx="3567600" cy="13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84" name=""/>
            <p:cNvSpPr/>
            <p:nvPr/>
          </p:nvSpPr>
          <p:spPr>
            <a:xfrm>
              <a:off x="3705120" y="4724280"/>
              <a:ext cx="74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Objętość kul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172-3724-46C7-BA64-C1AE1B6E15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1352520" y="2286000"/>
            <a:ext cx="71056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Oblicz objętość kuli wiedząc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że średnica wynosi 18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952640" y="3286080"/>
            <a:ext cx="5649480" cy="1882080"/>
            <a:chOff x="1952640" y="3286080"/>
            <a:chExt cx="5649480" cy="1882080"/>
          </a:xfrm>
        </p:grpSpPr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1999440" y="3908160"/>
                  <a:ext cx="2709000" cy="12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88" name=""/>
            <p:cNvSpPr/>
            <p:nvPr/>
          </p:nvSpPr>
          <p:spPr>
            <a:xfrm>
              <a:off x="1952640" y="3286080"/>
              <a:ext cx="56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739800" y="73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ff0000"/>
                </a:solidFill>
                <a:latin typeface="Times New Roman"/>
              </a:rPr>
              <a:t>ZADANIE  </a:t>
            </a:r>
            <a:endParaRPr b="0" lang="en-US" sz="8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836-E0A4-45B0-AB30-9E043A86EE03}" type="slidenum">
              <a:t>29</a:t>
            </a:fld>
          </a:p>
        </p:txBody>
      </p:sp>
    </p:spTree>
  </p:cSld>
  <p:transition advTm="8000"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WAL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0968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dcinek BD nazywamy tworzącą -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dcinek AB jest promieniem podstawy - r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dcinek AC jest wysokością walca -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590920"/>
            <a:ext cx="1981080" cy="2895480"/>
          </a:xfrm>
          <a:prstGeom prst="ca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971800"/>
            <a:ext cx="198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971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2971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51055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048120" y="3276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590920" y="2971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5400" y="51084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2240" y="54133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266688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9800" y="2989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E57-1A0F-4540-83B8-6F6E0DD3B650}" type="slidenum">
              <a:t>3</a:t>
            </a:fld>
          </a:p>
        </p:txBody>
      </p:sp>
    </p:spTree>
  </p:cSld>
  <p:transition advTm="8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00"/>
                </a:solidFill>
                <a:uFillTx/>
                <a:latin typeface="Tempus Sans ITC"/>
              </a:rPr>
              <a:t>Rozwiąz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empus Sans ITC"/>
              </a:rPr>
              <a:t>Oblicz objętość kuli wiedząc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empus Sans ITC"/>
              </a:rPr>
              <a:t>że jej średnica wynosi 18cm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                                    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d = 18    zatem    r = 9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                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1" lang="pl-PL" sz="2400" spc="-1" strike="noStrike">
                <a:solidFill>
                  <a:srgbClr val="ff3300"/>
                </a:solidFill>
                <a:latin typeface="Tempus Sans ITC"/>
              </a:rPr>
              <a:t>Odp: Objętość kuli wynosi 972 cm</a:t>
            </a:r>
            <a:r>
              <a:rPr b="1" lang="pl-PL" sz="2400" spc="-1" strike="noStrike" baseline="30000">
                <a:solidFill>
                  <a:srgbClr val="ff3300"/>
                </a:solidFill>
                <a:latin typeface="Tempus Sans ITC"/>
              </a:rPr>
              <a:t>3</a:t>
            </a:r>
            <a:r>
              <a:rPr b="1" lang="pl-PL" sz="2400" spc="-1" strike="noStrike">
                <a:solidFill>
                  <a:srgbClr val="ff3300"/>
                </a:solidFill>
                <a:latin typeface="Tempus Sans IT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857160" y="4210200"/>
                <a:ext cx="73468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9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"/>
          <p:cNvSpPr/>
          <p:nvPr/>
        </p:nvSpPr>
        <p:spPr>
          <a:xfrm flipH="1">
            <a:off x="3333240" y="4924440"/>
            <a:ext cx="304920" cy="371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397040" y="4492800"/>
            <a:ext cx="390600" cy="514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1EE-F279-405B-9875-3FC2EC019E4C}" type="slidenum">
              <a:t>30</a:t>
            </a:fld>
          </a:p>
        </p:txBody>
      </p:sp>
    </p:spTree>
  </p:cSld>
  <p:transition advTm="8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680" y="2441520"/>
            <a:ext cx="2457360" cy="4051440"/>
            <a:chOff x="274680" y="2441520"/>
            <a:chExt cx="2457360" cy="4051440"/>
          </a:xfrm>
        </p:grpSpPr>
        <p:grpSp>
          <p:nvGrpSpPr>
            <p:cNvPr id="497" name=""/>
            <p:cNvGrpSpPr/>
            <p:nvPr/>
          </p:nvGrpSpPr>
          <p:grpSpPr>
            <a:xfrm>
              <a:off x="274680" y="2441520"/>
              <a:ext cx="2457360" cy="4051440"/>
              <a:chOff x="274680" y="2441520"/>
              <a:chExt cx="2457360" cy="40514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274680" y="2441520"/>
                <a:ext cx="2457360" cy="4051440"/>
                <a:chOff x="274680" y="2441520"/>
                <a:chExt cx="2457360" cy="405144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588960" y="2610000"/>
                  <a:ext cx="2143080" cy="3882960"/>
                  <a:chOff x="588960" y="2610000"/>
                  <a:chExt cx="2143080" cy="38829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588960" y="3395520"/>
                    <a:ext cx="2143080" cy="183672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1006560" y="2610000"/>
                    <a:ext cx="1385280" cy="3882960"/>
                    <a:chOff x="1006560" y="2610000"/>
                    <a:chExt cx="1385280" cy="3882960"/>
                  </a:xfrm>
                </p:grpSpPr>
                <p:grpSp>
                  <p:nvGrpSpPr>
                    <p:cNvPr id="502" name=""/>
                    <p:cNvGrpSpPr/>
                    <p:nvPr/>
                  </p:nvGrpSpPr>
                  <p:grpSpPr>
                    <a:xfrm>
                      <a:off x="1044720" y="2610000"/>
                      <a:ext cx="1347120" cy="3882960"/>
                      <a:chOff x="1044720" y="2610000"/>
                      <a:chExt cx="1347120" cy="3882960"/>
                    </a:xfrm>
                  </p:grpSpPr>
                  <p:sp>
                    <p:nvSpPr>
                      <p:cNvPr id="503" name=""/>
                      <p:cNvSpPr/>
                      <p:nvPr/>
                    </p:nvSpPr>
                    <p:spPr>
                      <a:xfrm>
                        <a:off x="1712880" y="2610000"/>
                        <a:ext cx="0" cy="3882960"/>
                      </a:xfrm>
                      <a:prstGeom prst="line">
                        <a:avLst/>
                      </a:prstGeom>
                      <a:ln w="9360">
                        <a:solidFill>
                          <a:srgbClr val="ff33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4" name=""/>
                      <p:cNvSpPr/>
                      <p:nvPr/>
                    </p:nvSpPr>
                    <p:spPr>
                      <a:xfrm rot="16200000">
                        <a:off x="1277640" y="5793120"/>
                        <a:ext cx="6332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1600" spc="-1" strike="noStrike">
                            <a:solidFill>
                              <a:srgbClr val="990000"/>
                            </a:solidFill>
                            <a:latin typeface="Times New Roman"/>
                          </a:rPr>
                          <a:t>oś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05" name=""/>
                      <p:cNvGrpSpPr/>
                      <p:nvPr/>
                    </p:nvGrpSpPr>
                    <p:grpSpPr>
                      <a:xfrm>
                        <a:off x="1044720" y="3065760"/>
                        <a:ext cx="1347120" cy="2527200"/>
                        <a:chOff x="1044720" y="3065760"/>
                        <a:chExt cx="1347120" cy="2527200"/>
                      </a:xfrm>
                    </p:grpSpPr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>
                          <a:off x="1046160" y="3065760"/>
                          <a:ext cx="1344600" cy="6292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1050120" y="4827240"/>
                          <a:ext cx="1341720" cy="765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45" y="9818"/>
                              </a:moveTo>
                              <a:arcTo wR="10800" hR="10800" stAng="-10486966" swAng="10486966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45" y="9818"/>
                              </a:moveTo>
                              <a:arcTo wR="10800" hR="10800" stAng="-10486966" swAng="10486966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 flipV="1">
                          <a:off x="1046880" y="4802760"/>
                          <a:ext cx="1343520" cy="76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45" y="9812"/>
                              </a:moveTo>
                              <a:arcTo wR="10800" hR="10800" stAng="-10484938" swAng="1048493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45" y="9812"/>
                              </a:moveTo>
                              <a:arcTo wR="10800" hR="10800" stAng="-10484938" swAng="10484938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2390760" y="3372120"/>
                          <a:ext cx="0" cy="1814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>
                          <a:off x="1044720" y="3385080"/>
                          <a:ext cx="0" cy="184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1006560" y="3414600"/>
                      <a:ext cx="1384200" cy="1843200"/>
                      <a:chOff x="1006560" y="3414600"/>
                      <a:chExt cx="1384200" cy="184320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 flipV="1">
                        <a:off x="1031760" y="3414600"/>
                        <a:ext cx="1346400" cy="184320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 flipV="1">
                        <a:off x="1736640" y="4233960"/>
                        <a:ext cx="654120" cy="95256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1057320" y="3414600"/>
                        <a:ext cx="1332000" cy="1827360"/>
                      </a:xfrm>
                      <a:prstGeom prst="rect">
                        <a:avLst/>
                      </a:prstGeom>
                      <a:noFill/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 flipH="1">
                        <a:off x="1006560" y="3414600"/>
                        <a:ext cx="704880" cy="95436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16" name=""/>
                <p:cNvSpPr/>
                <p:nvPr/>
              </p:nvSpPr>
              <p:spPr>
                <a:xfrm>
                  <a:off x="382680" y="2441520"/>
                  <a:ext cx="1199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990000"/>
                      </a:solidFill>
                      <a:latin typeface="Times New Roman"/>
                    </a:rPr>
                    <a:t>Wale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7" name=""/>
                <p:cNvGrpSpPr/>
                <p:nvPr/>
              </p:nvGrpSpPr>
              <p:grpSpPr>
                <a:xfrm>
                  <a:off x="274680" y="5003280"/>
                  <a:ext cx="1282680" cy="958680"/>
                  <a:chOff x="274680" y="5003280"/>
                  <a:chExt cx="1282680" cy="95868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274680" y="5624640"/>
                    <a:ext cx="12826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prostoką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14280" y="5937120"/>
                    <a:ext cx="873000" cy="0"/>
                  </a:xfrm>
                  <a:prstGeom prst="line">
                    <a:avLst/>
                  </a:prstGeom>
                  <a:ln w="93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1173240" y="5003280"/>
                    <a:ext cx="368280" cy="933480"/>
                  </a:xfrm>
                  <a:prstGeom prst="line">
                    <a:avLst/>
                  </a:prstGeom>
                  <a:ln w="93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mc:AlternateContent>
            <mc:Choice xmlns:a14="http://schemas.microsoft.com/office/drawing/2010/main" Requires="a14">
              <p:sp>
                <p:nvSpPr>
                  <p:cNvPr id="521" name=""/>
                  <p:cNvSpPr txBox="1"/>
                  <p:nvPr/>
                </p:nvSpPr>
                <p:spPr>
                  <a:xfrm>
                    <a:off x="619200" y="4981680"/>
                    <a:ext cx="23328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22" name=""/>
            <p:cNvGrpSpPr/>
            <p:nvPr/>
          </p:nvGrpSpPr>
          <p:grpSpPr>
            <a:xfrm>
              <a:off x="1581120" y="3062160"/>
              <a:ext cx="618840" cy="2333520"/>
              <a:chOff x="1581120" y="3062160"/>
              <a:chExt cx="618840" cy="2333520"/>
            </a:xfrm>
          </p:grpSpPr>
          <mc:AlternateContent>
            <mc:Choice xmlns:a14="http://schemas.microsoft.com/office/drawing/2010/main" Requires="a14">
              <p:sp>
                <p:nvSpPr>
                  <p:cNvPr id="523" name=""/>
                  <p:cNvSpPr txBox="1"/>
                  <p:nvPr/>
                </p:nvSpPr>
                <p:spPr>
                  <a:xfrm>
                    <a:off x="1581120" y="3213000"/>
                    <a:ext cx="252360" cy="371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4" name=""/>
                  <p:cNvSpPr txBox="1"/>
                  <p:nvPr/>
                </p:nvSpPr>
                <p:spPr>
                  <a:xfrm>
                    <a:off x="1603080" y="5081400"/>
                    <a:ext cx="214560" cy="31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525" name=""/>
              <p:cNvSpPr/>
              <p:nvPr/>
            </p:nvSpPr>
            <p:spPr>
              <a:xfrm>
                <a:off x="1914480" y="4902120"/>
                <a:ext cx="28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76320" y="30621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RZEKROJE OSIO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680" y="1293840"/>
            <a:ext cx="86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zekrojem osiowym bryły obrotowej nazywamy część wspólną tej bryły z płaszczyzną zawierającą oś obro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709880" y="1957320"/>
            <a:ext cx="4974120" cy="4478040"/>
            <a:chOff x="4709880" y="1957320"/>
            <a:chExt cx="4974120" cy="4478040"/>
          </a:xfrm>
        </p:grpSpPr>
        <p:grpSp>
          <p:nvGrpSpPr>
            <p:cNvPr id="530" name=""/>
            <p:cNvGrpSpPr/>
            <p:nvPr/>
          </p:nvGrpSpPr>
          <p:grpSpPr>
            <a:xfrm>
              <a:off x="4709880" y="1957320"/>
              <a:ext cx="4974120" cy="4478040"/>
              <a:chOff x="4709880" y="1957320"/>
              <a:chExt cx="4974120" cy="447804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4709880" y="1957320"/>
                <a:ext cx="4974120" cy="4478040"/>
                <a:chOff x="4709880" y="1957320"/>
                <a:chExt cx="4974120" cy="447804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4709880" y="1957320"/>
                  <a:ext cx="4974120" cy="4478040"/>
                  <a:chOff x="4709880" y="1957320"/>
                  <a:chExt cx="4974120" cy="447804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rot="19308000">
                    <a:off x="4773240" y="3254040"/>
                    <a:ext cx="4846680" cy="1884240"/>
                  </a:xfrm>
                  <a:prstGeom prst="parallelogram">
                    <a:avLst>
                      <a:gd name="adj" fmla="val 78881"/>
                    </a:avLst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6121440" y="3040200"/>
                    <a:ext cx="2252160" cy="2246040"/>
                    <a:chOff x="6121440" y="3040200"/>
                    <a:chExt cx="2252160" cy="224604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6126120" y="3040200"/>
                      <a:ext cx="2246400" cy="22460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26120" y="3697200"/>
                      <a:ext cx="2247480" cy="80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" y="11390"/>
                          </a:moveTo>
                          <a:arcTo wR="10800" hR="10800" stAng="10612070" swAng="1098793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" y="11390"/>
                          </a:moveTo>
                          <a:arcTo wR="10800" hR="10800" stAng="10612070" swAng="1098793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V="1">
                      <a:off x="6121440" y="3626640"/>
                      <a:ext cx="2247480" cy="98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" y="11390"/>
                          </a:moveTo>
                          <a:arcTo wR="10800" hR="10800" stAng="10612070" swAng="1098793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" y="11390"/>
                          </a:moveTo>
                          <a:arcTo wR="10800" hR="10800" stAng="10612070" swAng="1098793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6725160" y="2490480"/>
                    <a:ext cx="1058400" cy="3632040"/>
                    <a:chOff x="6725160" y="2490480"/>
                    <a:chExt cx="1058400" cy="3632040"/>
                  </a:xfrm>
                </p:grpSpPr>
                <p:grpSp>
                  <p:nvGrpSpPr>
                    <p:cNvPr id="539" name=""/>
                    <p:cNvGrpSpPr/>
                    <p:nvPr/>
                  </p:nvGrpSpPr>
                  <p:grpSpPr>
                    <a:xfrm>
                      <a:off x="6725160" y="3043800"/>
                      <a:ext cx="1013400" cy="2252160"/>
                      <a:chOff x="6725160" y="3043800"/>
                      <a:chExt cx="1013400" cy="2252160"/>
                    </a:xfrm>
                  </p:grpSpPr>
                  <p:sp>
                    <p:nvSpPr>
                      <p:cNvPr id="540" name=""/>
                      <p:cNvSpPr/>
                      <p:nvPr/>
                    </p:nvSpPr>
                    <p:spPr>
                      <a:xfrm flipH="1" rot="5400000">
                        <a:off x="6120000" y="3672720"/>
                        <a:ext cx="2247480" cy="98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" y="11390"/>
                            </a:moveTo>
                            <a:arcTo wR="10800" hR="10800" stAng="10612070" swAng="1098793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" y="11390"/>
                            </a:moveTo>
                            <a:arcTo wR="10800" hR="10800" stAng="10612070" swAng="10987930"/>
                          </a:path>
                        </a:pathLst>
                      </a:custGeom>
                      <a:noFill/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" name=""/>
                      <p:cNvSpPr/>
                      <p:nvPr/>
                    </p:nvSpPr>
                    <p:spPr>
                      <a:xfrm flipH="1" flipV="1" rot="5400000">
                        <a:off x="6095880" y="3677040"/>
                        <a:ext cx="2247480" cy="98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" y="11390"/>
                            </a:moveTo>
                            <a:arcTo wR="10800" hR="10800" stAng="10612070" swAng="1098793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" y="11390"/>
                            </a:moveTo>
                            <a:arcTo wR="10800" hR="10800" stAng="10612070" swAng="10987930"/>
                          </a:path>
                        </a:pathLst>
                      </a:custGeom>
                      <a:noFill/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2" name=""/>
                    <p:cNvSpPr/>
                    <p:nvPr/>
                  </p:nvSpPr>
                  <p:spPr>
                    <a:xfrm flipV="1">
                      <a:off x="7250040" y="2490480"/>
                      <a:ext cx="0" cy="363204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V="1">
                      <a:off x="6754680" y="3414600"/>
                      <a:ext cx="901800" cy="69696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6784920" y="3174840"/>
                      <a:ext cx="695520" cy="51912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V="1">
                      <a:off x="6827760" y="3800520"/>
                      <a:ext cx="955800" cy="75096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V="1">
                      <a:off x="6988320" y="4667400"/>
                      <a:ext cx="682560" cy="50472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V="1">
                      <a:off x="6894360" y="4248000"/>
                      <a:ext cx="847800" cy="64152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48" name=""/>
                <p:cNvSpPr/>
                <p:nvPr/>
              </p:nvSpPr>
              <p:spPr>
                <a:xfrm>
                  <a:off x="7343640" y="37260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49" name=""/>
                    <p:cNvSpPr txBox="1"/>
                    <p:nvPr/>
                  </p:nvSpPr>
                  <p:spPr>
                    <a:xfrm>
                      <a:off x="5892840" y="5994360"/>
                      <a:ext cx="235080" cy="216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550" name=""/>
              <p:cNvSpPr/>
              <p:nvPr/>
            </p:nvSpPr>
            <p:spPr>
              <a:xfrm>
                <a:off x="5881680" y="2443320"/>
                <a:ext cx="137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Kul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1" name=""/>
              <p:cNvGrpSpPr/>
              <p:nvPr/>
            </p:nvGrpSpPr>
            <p:grpSpPr>
              <a:xfrm>
                <a:off x="7437240" y="5029200"/>
                <a:ext cx="1094040" cy="875520"/>
                <a:chOff x="7437240" y="5029200"/>
                <a:chExt cx="1094040" cy="8755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862760" y="5567400"/>
                  <a:ext cx="668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8000"/>
                      </a:solidFill>
                      <a:latin typeface="Times New Roman"/>
                    </a:rPr>
                    <a:t>koł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915320" y="5869080"/>
                  <a:ext cx="56052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H="1" flipV="1">
                  <a:off x="7437240" y="5029200"/>
                  <a:ext cx="492120" cy="85248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5" name=""/>
            <p:cNvSpPr/>
            <p:nvPr/>
          </p:nvSpPr>
          <p:spPr>
            <a:xfrm rot="16200000">
              <a:off x="6833160" y="5811120"/>
              <a:ext cx="50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"/>
                <p:cNvSpPr txBox="1"/>
                <p:nvPr/>
              </p:nvSpPr>
              <p:spPr>
                <a:xfrm>
                  <a:off x="7174080" y="4145040"/>
                  <a:ext cx="166680" cy="1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57" name=""/>
          <p:cNvGrpSpPr/>
          <p:nvPr/>
        </p:nvGrpSpPr>
        <p:grpSpPr>
          <a:xfrm>
            <a:off x="2207880" y="2149560"/>
            <a:ext cx="4361760" cy="4342320"/>
            <a:chOff x="2207880" y="2149560"/>
            <a:chExt cx="4361760" cy="4342320"/>
          </a:xfrm>
        </p:grpSpPr>
        <p:sp>
          <p:nvSpPr>
            <p:cNvPr id="558" name=""/>
            <p:cNvSpPr/>
            <p:nvPr/>
          </p:nvSpPr>
          <p:spPr>
            <a:xfrm rot="16200000">
              <a:off x="3979800" y="58096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2207880" y="2149560"/>
              <a:ext cx="4361760" cy="4342320"/>
              <a:chOff x="2207880" y="2149560"/>
              <a:chExt cx="4361760" cy="434232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2207880" y="2149560"/>
                <a:ext cx="4361760" cy="4170240"/>
                <a:chOff x="2207880" y="2149560"/>
                <a:chExt cx="4361760" cy="4170240"/>
              </a:xfrm>
            </p:grpSpPr>
            <p:grpSp>
              <p:nvGrpSpPr>
                <p:cNvPr id="561" name=""/>
                <p:cNvGrpSpPr/>
                <p:nvPr/>
              </p:nvGrpSpPr>
              <p:grpSpPr>
                <a:xfrm>
                  <a:off x="2207880" y="2149560"/>
                  <a:ext cx="4361760" cy="4170240"/>
                  <a:chOff x="2207880" y="2149560"/>
                  <a:chExt cx="4361760" cy="417024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rot="19308000">
                    <a:off x="2316240" y="3239640"/>
                    <a:ext cx="4145040" cy="1785960"/>
                  </a:xfrm>
                  <a:prstGeom prst="parallelogram">
                    <a:avLst>
                      <a:gd name="adj" fmla="val 78954"/>
                    </a:avLst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V="1">
                    <a:off x="3567240" y="3030120"/>
                    <a:ext cx="847440" cy="214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3576240" y="2544840"/>
                    <a:ext cx="1789560" cy="3774960"/>
                    <a:chOff x="3576240" y="2544840"/>
                    <a:chExt cx="1789560" cy="377496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3576240" y="4768560"/>
                      <a:ext cx="1774800" cy="9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" y="10401"/>
                          </a:moveTo>
                          <a:arcTo wR="10800" hR="10800" stAng="-10673085" swAng="106730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" y="10401"/>
                          </a:moveTo>
                          <a:arcTo wR="10800" hR="10800" stAng="-10673085" swAng="10673085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flipV="1">
                      <a:off x="3576240" y="4714200"/>
                      <a:ext cx="1774800" cy="9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" y="10401"/>
                          </a:moveTo>
                          <a:arcTo wR="10800" hR="10800" stAng="-10673085" swAng="106730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" y="10401"/>
                          </a:moveTo>
                          <a:arcTo wR="10800" hR="10800" stAng="-10673085" swAng="10673085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567" name=""/>
                        <p:cNvSpPr txBox="1"/>
                        <p:nvPr/>
                      </p:nvSpPr>
                      <p:spPr>
                        <a:xfrm>
                          <a:off x="4216320" y="4967280"/>
                          <a:ext cx="495360" cy="4946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/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4464000" y="2896920"/>
                      <a:ext cx="901800" cy="232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 flipV="1">
                      <a:off x="4464000" y="2544840"/>
                      <a:ext cx="0" cy="377496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4019040" y="2949480"/>
                    <a:ext cx="902160" cy="2612880"/>
                    <a:chOff x="4019040" y="2949480"/>
                    <a:chExt cx="902160" cy="2612880"/>
                  </a:xfrm>
                </p:grpSpPr>
                <p:grpSp>
                  <p:nvGrpSpPr>
                    <p:cNvPr id="571" name=""/>
                    <p:cNvGrpSpPr/>
                    <p:nvPr/>
                  </p:nvGrpSpPr>
                  <p:grpSpPr>
                    <a:xfrm>
                      <a:off x="4019040" y="2949480"/>
                      <a:ext cx="902160" cy="2612880"/>
                      <a:chOff x="4019040" y="2949480"/>
                      <a:chExt cx="902160" cy="2612880"/>
                    </a:xfrm>
                  </p:grpSpPr>
                  <p:sp>
                    <p:nvSpPr>
                      <p:cNvPr id="572" name=""/>
                      <p:cNvSpPr/>
                      <p:nvPr/>
                    </p:nvSpPr>
                    <p:spPr>
                      <a:xfrm flipH="1">
                        <a:off x="4019040" y="2949480"/>
                        <a:ext cx="444600" cy="261288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" name=""/>
                      <p:cNvSpPr/>
                      <p:nvPr/>
                    </p:nvSpPr>
                    <p:spPr>
                      <a:xfrm flipH="1" flipV="1">
                        <a:off x="4464000" y="2961720"/>
                        <a:ext cx="457200" cy="189396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4" name=""/>
                      <p:cNvSpPr/>
                      <p:nvPr/>
                    </p:nvSpPr>
                    <p:spPr>
                      <a:xfrm flipV="1">
                        <a:off x="4046400" y="4855680"/>
                        <a:ext cx="862200" cy="67932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5" name=""/>
                    <p:cNvSpPr/>
                    <p:nvPr/>
                  </p:nvSpPr>
                  <p:spPr>
                    <a:xfrm flipV="1">
                      <a:off x="4254480" y="3803040"/>
                      <a:ext cx="404640" cy="27468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flipV="1">
                      <a:off x="4124160" y="4313160"/>
                      <a:ext cx="665280" cy="49536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7" name=""/>
                <p:cNvSpPr/>
                <p:nvPr/>
              </p:nvSpPr>
              <p:spPr>
                <a:xfrm>
                  <a:off x="4572000" y="47386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78" name=""/>
                    <p:cNvSpPr txBox="1"/>
                    <p:nvPr/>
                  </p:nvSpPr>
                  <p:spPr>
                    <a:xfrm>
                      <a:off x="3309840" y="5672160"/>
                      <a:ext cx="244440" cy="223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579" name=""/>
              <p:cNvSpPr/>
              <p:nvPr/>
            </p:nvSpPr>
            <p:spPr>
              <a:xfrm>
                <a:off x="3071880" y="2457360"/>
                <a:ext cx="12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Stoże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0" name=""/>
              <p:cNvGrpSpPr/>
              <p:nvPr/>
            </p:nvGrpSpPr>
            <p:grpSpPr>
              <a:xfrm>
                <a:off x="3003480" y="4869000"/>
                <a:ext cx="2338560" cy="1622880"/>
                <a:chOff x="3003480" y="4869000"/>
                <a:chExt cx="2338560" cy="16228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3090960" y="6154560"/>
                  <a:ext cx="225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8000"/>
                      </a:solidFill>
                      <a:latin typeface="Times New Roman"/>
                    </a:rPr>
                    <a:t>trójkąt równoramienn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003480" y="6442200"/>
                  <a:ext cx="221004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 flipV="1">
                  <a:off x="4299120" y="4869000"/>
                  <a:ext cx="900000" cy="155880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4A6-90ED-4A15-AA1B-4B0914540E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298440" y="3770280"/>
            <a:ext cx="8472600" cy="954000"/>
            <a:chOff x="298440" y="3770280"/>
            <a:chExt cx="8472600" cy="954000"/>
          </a:xfrm>
        </p:grpSpPr>
        <p:grpSp>
          <p:nvGrpSpPr>
            <p:cNvPr id="585" name=""/>
            <p:cNvGrpSpPr/>
            <p:nvPr/>
          </p:nvGrpSpPr>
          <p:grpSpPr>
            <a:xfrm>
              <a:off x="298440" y="3770280"/>
              <a:ext cx="8472600" cy="954000"/>
              <a:chOff x="298440" y="3770280"/>
              <a:chExt cx="8472600" cy="954000"/>
            </a:xfrm>
          </p:grpSpPr>
          <p:sp>
            <p:nvSpPr>
              <p:cNvPr id="586" name=""/>
              <p:cNvSpPr/>
              <p:nvPr/>
            </p:nvSpPr>
            <p:spPr>
              <a:xfrm>
                <a:off x="298440" y="3770280"/>
                <a:ext cx="8472600" cy="954000"/>
              </a:xfrm>
              <a:prstGeom prst="parallelogram">
                <a:avLst>
                  <a:gd name="adj" fmla="val -45959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7" name=""/>
                  <p:cNvSpPr txBox="1"/>
                  <p:nvPr/>
                </p:nvSpPr>
                <p:spPr>
                  <a:xfrm>
                    <a:off x="515880" y="4500720"/>
                    <a:ext cx="23328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8" name=""/>
              <p:cNvGrpSpPr/>
              <p:nvPr/>
            </p:nvGrpSpPr>
            <p:grpSpPr>
              <a:xfrm>
                <a:off x="3971520" y="3981600"/>
                <a:ext cx="969480" cy="549000"/>
                <a:chOff x="3971520" y="3981600"/>
                <a:chExt cx="969480" cy="549000"/>
              </a:xfrm>
            </p:grpSpPr>
            <p:sp>
              <p:nvSpPr>
                <p:cNvPr id="589" name=""/>
                <p:cNvSpPr/>
                <p:nvPr/>
              </p:nvSpPr>
              <p:spPr>
                <a:xfrm flipH="1" flipV="1">
                  <a:off x="4023000" y="4125600"/>
                  <a:ext cx="223200" cy="3596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0" name=""/>
                <p:cNvGrpSpPr/>
                <p:nvPr/>
              </p:nvGrpSpPr>
              <p:grpSpPr>
                <a:xfrm>
                  <a:off x="3971520" y="3981600"/>
                  <a:ext cx="969480" cy="549000"/>
                  <a:chOff x="3971520" y="3981600"/>
                  <a:chExt cx="969480" cy="54900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flipH="1">
                    <a:off x="3971160" y="4005360"/>
                    <a:ext cx="96732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 flipV="1">
                    <a:off x="3973320" y="4017960"/>
                    <a:ext cx="96732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 flipV="1">
                    <a:off x="4132080" y="4047120"/>
                    <a:ext cx="299880" cy="46692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 flipV="1">
                    <a:off x="4298400" y="3981600"/>
                    <a:ext cx="323280" cy="49464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 flipV="1">
                    <a:off x="4671360" y="4039560"/>
                    <a:ext cx="217080" cy="35352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 flipV="1">
                    <a:off x="4491360" y="4002840"/>
                    <a:ext cx="275760" cy="43884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1092240" y="3936960"/>
                <a:ext cx="1290240" cy="577440"/>
                <a:chOff x="1092240" y="3936960"/>
                <a:chExt cx="1290240" cy="577440"/>
              </a:xfrm>
            </p:grpSpPr>
            <p:sp>
              <p:nvSpPr>
                <p:cNvPr id="598" name=""/>
                <p:cNvSpPr/>
                <p:nvPr/>
              </p:nvSpPr>
              <p:spPr>
                <a:xfrm flipH="1" flipV="1">
                  <a:off x="1160280" y="4088160"/>
                  <a:ext cx="297360" cy="37872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9" name=""/>
                <p:cNvGrpSpPr/>
                <p:nvPr/>
              </p:nvGrpSpPr>
              <p:grpSpPr>
                <a:xfrm>
                  <a:off x="1092240" y="3936960"/>
                  <a:ext cx="1290240" cy="577440"/>
                  <a:chOff x="1092240" y="3936960"/>
                  <a:chExt cx="1290240" cy="5774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flipH="1">
                    <a:off x="1092240" y="3961800"/>
                    <a:ext cx="1287360" cy="538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 flipV="1">
                    <a:off x="1095120" y="3975120"/>
                    <a:ext cx="1287360" cy="538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 flipV="1">
                    <a:off x="1305720" y="4006080"/>
                    <a:ext cx="399240" cy="49140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 flipV="1">
                    <a:off x="1526400" y="3936960"/>
                    <a:ext cx="430200" cy="52056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 flipV="1">
                    <a:off x="2023200" y="3998160"/>
                    <a:ext cx="289080" cy="37188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 flipV="1">
                    <a:off x="1783440" y="3959280"/>
                    <a:ext cx="367200" cy="46188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06" name=""/>
            <p:cNvGrpSpPr/>
            <p:nvPr/>
          </p:nvGrpSpPr>
          <p:grpSpPr>
            <a:xfrm>
              <a:off x="5913000" y="3898800"/>
              <a:ext cx="1733400" cy="669240"/>
              <a:chOff x="5913000" y="3898800"/>
              <a:chExt cx="1733400" cy="669240"/>
            </a:xfrm>
          </p:grpSpPr>
          <p:sp>
            <p:nvSpPr>
              <p:cNvPr id="607" name=""/>
              <p:cNvSpPr/>
              <p:nvPr/>
            </p:nvSpPr>
            <p:spPr>
              <a:xfrm flipH="1" flipV="1">
                <a:off x="6004080" y="4073040"/>
                <a:ext cx="398160" cy="43812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5913000" y="3898800"/>
                <a:ext cx="1733400" cy="669240"/>
                <a:chOff x="5913000" y="3898800"/>
                <a:chExt cx="1733400" cy="669240"/>
              </a:xfrm>
            </p:grpSpPr>
            <p:sp>
              <p:nvSpPr>
                <p:cNvPr id="609" name=""/>
                <p:cNvSpPr/>
                <p:nvPr/>
              </p:nvSpPr>
              <p:spPr>
                <a:xfrm flipH="1">
                  <a:off x="5912640" y="3927600"/>
                  <a:ext cx="1729800" cy="62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" y="11390"/>
                      </a:moveTo>
                      <a:arcTo wR="10800" hR="10800" stAng="10612070" swAng="10987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" y="11390"/>
                      </a:moveTo>
                      <a:arcTo wR="10800" hR="10800" stAng="10612070" swAng="10987930"/>
                    </a:path>
                  </a:pathLst>
                </a:custGeom>
                <a:noFill/>
                <a:ln w="7632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>
                  <a:off x="5916960" y="3943080"/>
                  <a:ext cx="1729440" cy="62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" y="11390"/>
                      </a:moveTo>
                      <a:arcTo wR="10800" hR="10800" stAng="10612070" swAng="10987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" y="11390"/>
                      </a:moveTo>
                      <a:arcTo wR="10800" hR="10800" stAng="10612070" swAng="10987930"/>
                    </a:path>
                  </a:pathLst>
                </a:custGeom>
                <a:noFill/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 flipV="1">
                  <a:off x="6200280" y="3979080"/>
                  <a:ext cx="536040" cy="56952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 flipV="1">
                  <a:off x="6496920" y="3898800"/>
                  <a:ext cx="577800" cy="60372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flipV="1">
                  <a:off x="7164360" y="3969720"/>
                  <a:ext cx="388080" cy="431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 flipV="1">
                  <a:off x="6841800" y="3924720"/>
                  <a:ext cx="493200" cy="5356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RZEKROJE POPRZECZ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9520" y="1346040"/>
            <a:ext cx="873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zekrojem poprzecznym bryły obrotowej nazywamy część wspólną tej bryły z płaszczyzną prostopadłą do osi obro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2047680" y="4398480"/>
            <a:ext cx="6664680" cy="1577520"/>
            <a:chOff x="2047680" y="4398480"/>
            <a:chExt cx="6664680" cy="1577520"/>
          </a:xfrm>
        </p:grpSpPr>
        <p:grpSp>
          <p:nvGrpSpPr>
            <p:cNvPr id="618" name=""/>
            <p:cNvGrpSpPr/>
            <p:nvPr/>
          </p:nvGrpSpPr>
          <p:grpSpPr>
            <a:xfrm>
              <a:off x="7229520" y="4398480"/>
              <a:ext cx="1482840" cy="1561680"/>
              <a:chOff x="7229520" y="4398480"/>
              <a:chExt cx="1482840" cy="1561680"/>
            </a:xfrm>
          </p:grpSpPr>
          <p:sp>
            <p:nvSpPr>
              <p:cNvPr id="619" name=""/>
              <p:cNvSpPr/>
              <p:nvPr/>
            </p:nvSpPr>
            <p:spPr>
              <a:xfrm>
                <a:off x="8044200" y="5622840"/>
                <a:ext cx="66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koł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096400" y="5924520"/>
                <a:ext cx="560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7229520" y="4398480"/>
                <a:ext cx="880920" cy="15382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4724280" y="4414320"/>
              <a:ext cx="1482840" cy="1561680"/>
              <a:chOff x="4724280" y="4414320"/>
              <a:chExt cx="1482840" cy="1561680"/>
            </a:xfrm>
          </p:grpSpPr>
          <p:sp>
            <p:nvSpPr>
              <p:cNvPr id="623" name=""/>
              <p:cNvSpPr/>
              <p:nvPr/>
            </p:nvSpPr>
            <p:spPr>
              <a:xfrm>
                <a:off x="5538960" y="5638680"/>
                <a:ext cx="66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koł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91160" y="5940360"/>
                <a:ext cx="560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4724280" y="4414320"/>
                <a:ext cx="880920" cy="15382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2047680" y="4404960"/>
              <a:ext cx="1482840" cy="1561680"/>
              <a:chOff x="2047680" y="4404960"/>
              <a:chExt cx="1482840" cy="1561680"/>
            </a:xfrm>
          </p:grpSpPr>
          <p:sp>
            <p:nvSpPr>
              <p:cNvPr id="627" name=""/>
              <p:cNvSpPr/>
              <p:nvPr/>
            </p:nvSpPr>
            <p:spPr>
              <a:xfrm>
                <a:off x="2862360" y="5629320"/>
                <a:ext cx="66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koł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914560" y="5931000"/>
                <a:ext cx="560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2047680" y="4404960"/>
                <a:ext cx="880920" cy="15382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"/>
          <p:cNvGrpSpPr/>
          <p:nvPr/>
        </p:nvGrpSpPr>
        <p:grpSpPr>
          <a:xfrm>
            <a:off x="390600" y="2441520"/>
            <a:ext cx="7264440" cy="4051440"/>
            <a:chOff x="390600" y="2441520"/>
            <a:chExt cx="7264440" cy="4051440"/>
          </a:xfrm>
        </p:grpSpPr>
        <p:grpSp>
          <p:nvGrpSpPr>
            <p:cNvPr id="631" name=""/>
            <p:cNvGrpSpPr/>
            <p:nvPr/>
          </p:nvGrpSpPr>
          <p:grpSpPr>
            <a:xfrm>
              <a:off x="390600" y="2441520"/>
              <a:ext cx="2011320" cy="4051440"/>
              <a:chOff x="390600" y="2441520"/>
              <a:chExt cx="2011320" cy="4051440"/>
            </a:xfrm>
          </p:grpSpPr>
          <mc:AlternateContent>
            <mc:Choice xmlns:a14="http://schemas.microsoft.com/office/drawing/2010/main" Requires="a14">
              <p:sp>
                <p:nvSpPr>
                  <p:cNvPr id="632" name=""/>
                  <p:cNvSpPr txBox="1"/>
                  <p:nvPr/>
                </p:nvSpPr>
                <p:spPr>
                  <a:xfrm>
                    <a:off x="1611360" y="5089680"/>
                    <a:ext cx="21420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633" name=""/>
              <p:cNvGrpSpPr/>
              <p:nvPr/>
            </p:nvGrpSpPr>
            <p:grpSpPr>
              <a:xfrm>
                <a:off x="390600" y="2441520"/>
                <a:ext cx="2011320" cy="4051440"/>
                <a:chOff x="390600" y="2441520"/>
                <a:chExt cx="2011320" cy="40514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634" name=""/>
                    <p:cNvSpPr txBox="1"/>
                    <p:nvPr/>
                  </p:nvSpPr>
                  <p:spPr>
                    <a:xfrm>
                      <a:off x="1619280" y="4078440"/>
                      <a:ext cx="210960" cy="210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/>
                      </a14:m>
                    </a:p>
                  </p:txBody>
                </p:sp>
              </mc:Choice>
              <mc:Fallback/>
            </mc:AlternateContent>
            <p:sp>
              <p:nvSpPr>
                <p:cNvPr id="635" name=""/>
                <p:cNvSpPr/>
                <p:nvPr/>
              </p:nvSpPr>
              <p:spPr>
                <a:xfrm>
                  <a:off x="1722600" y="4175280"/>
                  <a:ext cx="669600" cy="0"/>
                </a:xfrm>
                <a:prstGeom prst="line">
                  <a:avLst/>
                </a:prstGeom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720800" y="2610000"/>
                  <a:ext cx="0" cy="38829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rot="16200000">
                  <a:off x="1277280" y="5840640"/>
                  <a:ext cx="633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oś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8" name=""/>
                <p:cNvGrpSpPr/>
                <p:nvPr/>
              </p:nvGrpSpPr>
              <p:grpSpPr>
                <a:xfrm>
                  <a:off x="1052640" y="3065400"/>
                  <a:ext cx="1347120" cy="2527560"/>
                  <a:chOff x="1052640" y="3065400"/>
                  <a:chExt cx="1347120" cy="252756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>
                    <a:off x="1054080" y="3065400"/>
                    <a:ext cx="1344600" cy="629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1058040" y="4827240"/>
                    <a:ext cx="1341720" cy="765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5" y="9818"/>
                        </a:moveTo>
                        <a:arcTo wR="10800" hR="10800" stAng="-10486966" swAng="1048696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5" y="9818"/>
                        </a:moveTo>
                        <a:arcTo wR="10800" hR="10800" stAng="-10486966" swAng="10486966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V="1">
                    <a:off x="1054800" y="4802760"/>
                    <a:ext cx="1343520" cy="766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5" y="9812"/>
                        </a:moveTo>
                        <a:arcTo wR="10800" hR="10800" stAng="-10484938" swAng="104849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5" y="9812"/>
                        </a:moveTo>
                        <a:arcTo wR="10800" hR="10800" stAng="-10484938" swAng="10484938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398680" y="3371760"/>
                    <a:ext cx="0" cy="181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1052640" y="3384720"/>
                    <a:ext cx="0" cy="184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4" name=""/>
                <p:cNvSpPr/>
                <p:nvPr/>
              </p:nvSpPr>
              <p:spPr>
                <a:xfrm>
                  <a:off x="390600" y="2441520"/>
                  <a:ext cx="1200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990000"/>
                      </a:solidFill>
                      <a:latin typeface="Times New Roman"/>
                    </a:rPr>
                    <a:t>Wale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974960" y="4890960"/>
                  <a:ext cx="285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722600" y="5181480"/>
                  <a:ext cx="679320" cy="0"/>
                </a:xfrm>
                <a:prstGeom prst="line">
                  <a:avLst/>
                </a:prstGeom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965240" y="39020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V="1">
                  <a:off x="1449360" y="5581080"/>
                  <a:ext cx="533160" cy="37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62" y="18123"/>
                      </a:moveTo>
                      <a:arcTo wR="10800" hR="10800" stAng="8238514" swAng="149747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62" y="18123"/>
                      </a:moveTo>
                      <a:arcTo wR="10800" hR="10800" stAng="8238514" swAng="14974726"/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9" name=""/>
            <p:cNvGrpSpPr/>
            <p:nvPr/>
          </p:nvGrpSpPr>
          <p:grpSpPr>
            <a:xfrm>
              <a:off x="3071880" y="2473200"/>
              <a:ext cx="2293920" cy="3884760"/>
              <a:chOff x="3071880" y="2473200"/>
              <a:chExt cx="2293920" cy="3884760"/>
            </a:xfrm>
          </p:grpSpPr>
          <mc:AlternateContent>
            <mc:Choice xmlns:a14="http://schemas.microsoft.com/office/drawing/2010/main" Requires="a14">
              <p:sp>
                <p:nvSpPr>
                  <p:cNvPr id="650" name=""/>
                  <p:cNvSpPr txBox="1"/>
                  <p:nvPr/>
                </p:nvSpPr>
                <p:spPr>
                  <a:xfrm>
                    <a:off x="4394160" y="5102280"/>
                    <a:ext cx="127080" cy="17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1" name=""/>
                  <p:cNvSpPr txBox="1"/>
                  <p:nvPr/>
                </p:nvSpPr>
                <p:spPr>
                  <a:xfrm>
                    <a:off x="4386240" y="4189320"/>
                    <a:ext cx="201600" cy="185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652" name=""/>
              <p:cNvGrpSpPr/>
              <p:nvPr/>
            </p:nvGrpSpPr>
            <p:grpSpPr>
              <a:xfrm>
                <a:off x="3071880" y="2473200"/>
                <a:ext cx="2293920" cy="3884760"/>
                <a:chOff x="3071880" y="2473200"/>
                <a:chExt cx="2293920" cy="388476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576240" y="4768920"/>
                  <a:ext cx="1774800" cy="91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" y="10401"/>
                      </a:moveTo>
                      <a:arcTo wR="10800" hR="10800" stAng="-10673085" swAng="106730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" y="10401"/>
                      </a:moveTo>
                      <a:arcTo wR="10800" hR="10800" stAng="-10673085" swAng="10673085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4" name=""/>
                <p:cNvGrpSpPr/>
                <p:nvPr/>
              </p:nvGrpSpPr>
              <p:grpSpPr>
                <a:xfrm>
                  <a:off x="3071880" y="2473200"/>
                  <a:ext cx="2293920" cy="3884760"/>
                  <a:chOff x="3071880" y="2473200"/>
                  <a:chExt cx="2293920" cy="388476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4830840" y="48909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0000"/>
                        </a:solidFill>
                        <a:latin typeface="Times New Roman"/>
                      </a:rPr>
                      <a:t>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3071880" y="2473200"/>
                    <a:ext cx="2293920" cy="3884760"/>
                    <a:chOff x="3071880" y="2473200"/>
                    <a:chExt cx="2293920" cy="388476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flipV="1">
                      <a:off x="3567240" y="2908440"/>
                      <a:ext cx="879480" cy="2279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V="1">
                      <a:off x="3576240" y="4729680"/>
                      <a:ext cx="1774800" cy="9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" y="10401"/>
                          </a:moveTo>
                          <a:arcTo wR="10800" hR="10800" stAng="-10673085" swAng="106730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" y="10401"/>
                          </a:moveTo>
                          <a:arcTo wR="10800" hR="10800" stAng="-10673085" swAng="10673085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4464000" y="2913120"/>
                      <a:ext cx="901800" cy="232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flipV="1">
                      <a:off x="4464000" y="2583000"/>
                      <a:ext cx="0" cy="377496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3071880" y="2473200"/>
                      <a:ext cx="1214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Stoż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4471920" y="4275000"/>
                      <a:ext cx="509760" cy="0"/>
                    </a:xfrm>
                    <a:prstGeom prst="line">
                      <a:avLst/>
                    </a:prstGeom>
                    <a:ln w="936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663" name=""/>
                        <p:cNvSpPr txBox="1"/>
                        <p:nvPr/>
                      </p:nvSpPr>
                      <p:spPr>
                        <a:xfrm>
                          <a:off x="4676760" y="4056120"/>
                          <a:ext cx="216000" cy="2397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4465800" y="5189400"/>
                      <a:ext cx="868320" cy="0"/>
                    </a:xfrm>
                    <a:prstGeom prst="line">
                      <a:avLst/>
                    </a:prstGeom>
                    <a:ln w="936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rot="16200000">
                      <a:off x="4175280" y="5950800"/>
                      <a:ext cx="4572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o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flipV="1">
                      <a:off x="4191120" y="5635080"/>
                      <a:ext cx="532800" cy="37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2" y="18123"/>
                          </a:moveTo>
                          <a:arcTo wR="10800" hR="10800" stAng="8238514" swAng="149747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2" y="18123"/>
                          </a:moveTo>
                          <a:arcTo wR="10800" hR="10800" stAng="8238514" swAng="14974726"/>
                        </a:path>
                      </a:pathLst>
                    </a:custGeom>
                    <a:noFill/>
                    <a:ln w="38160">
                      <a:solidFill>
                        <a:srgbClr val="ff33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67" name=""/>
            <p:cNvGrpSpPr/>
            <p:nvPr/>
          </p:nvGrpSpPr>
          <p:grpSpPr>
            <a:xfrm>
              <a:off x="5881680" y="2498760"/>
              <a:ext cx="1773360" cy="3830760"/>
              <a:chOff x="5881680" y="2498760"/>
              <a:chExt cx="1773360" cy="3830760"/>
            </a:xfrm>
          </p:grpSpPr>
          <p:sp>
            <p:nvSpPr>
              <p:cNvPr id="668" name=""/>
              <p:cNvSpPr/>
              <p:nvPr/>
            </p:nvSpPr>
            <p:spPr>
              <a:xfrm flipV="1" rot="5400000">
                <a:off x="5865120" y="3911400"/>
                <a:ext cx="1774440" cy="78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" y="11390"/>
                    </a:moveTo>
                    <a:arcTo wR="10800" hR="10800" stAng="10612070" swAng="109879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" y="11390"/>
                    </a:moveTo>
                    <a:arcTo wR="10800" hR="10800" stAng="10612070" swAng="109879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5881680" y="2498760"/>
                <a:ext cx="1773360" cy="3830760"/>
                <a:chOff x="5881680" y="2498760"/>
                <a:chExt cx="1773360" cy="3830760"/>
              </a:xfrm>
            </p:grpSpPr>
            <p:sp>
              <p:nvSpPr>
                <p:cNvPr id="670" name=""/>
                <p:cNvSpPr/>
                <p:nvPr/>
              </p:nvSpPr>
              <p:spPr>
                <a:xfrm rot="5400000">
                  <a:off x="5879880" y="3987720"/>
                  <a:ext cx="1774440" cy="637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" y="11390"/>
                      </a:moveTo>
                      <a:arcTo wR="10800" hR="10800" stAng="10612070" swAng="10987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" y="11390"/>
                      </a:moveTo>
                      <a:arcTo wR="10800" hR="10800" stAng="10612070" swAng="1098793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5881680" y="2498760"/>
                  <a:ext cx="1773360" cy="3830760"/>
                  <a:chOff x="5881680" y="2498760"/>
                  <a:chExt cx="1773360" cy="383076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>
                    <a:off x="6743880" y="4213080"/>
                    <a:ext cx="898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5881680" y="2498760"/>
                    <a:ext cx="1773360" cy="3830760"/>
                    <a:chOff x="5881680" y="2498760"/>
                    <a:chExt cx="1773360" cy="383076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V="1">
                      <a:off x="6746760" y="2697120"/>
                      <a:ext cx="0" cy="363240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5881680" y="3414600"/>
                      <a:ext cx="1773360" cy="17719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7091280" y="3933720"/>
                      <a:ext cx="2858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5910120" y="2498760"/>
                      <a:ext cx="1379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Ku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678" name=""/>
                        <p:cNvSpPr txBox="1"/>
                        <p:nvPr/>
                      </p:nvSpPr>
                      <p:spPr>
                        <a:xfrm>
                          <a:off x="6662880" y="4121280"/>
                          <a:ext cx="198360" cy="1983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/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679" name=""/>
                    <p:cNvSpPr/>
                    <p:nvPr/>
                  </p:nvSpPr>
                  <p:spPr>
                    <a:xfrm rot="16200000">
                      <a:off x="6402600" y="5646240"/>
                      <a:ext cx="4572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o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flipV="1">
                      <a:off x="6478560" y="5230440"/>
                      <a:ext cx="533160" cy="37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2" y="18123"/>
                          </a:moveTo>
                          <a:arcTo wR="10800" hR="10800" stAng="8238514" swAng="149747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2" y="18123"/>
                          </a:moveTo>
                          <a:arcTo wR="10800" hR="10800" stAng="8238514" swAng="14974726"/>
                        </a:path>
                      </a:pathLst>
                    </a:custGeom>
                    <a:noFill/>
                    <a:ln w="38160">
                      <a:solidFill>
                        <a:srgbClr val="ff33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09B-7383-42E9-887A-9E23A4F53B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5516640" y="4602240"/>
            <a:ext cx="24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KONI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39596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04E-FBCC-493F-8950-F5E25A5FF8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440" y="1990800"/>
            <a:ext cx="824868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math.edu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matematykam.pl/rodzaje_bryl_obrotowych.html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ww.cen.bialystok.pl/matematy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zs2ndg.szkolnastrona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E23-4A4F-4A3A-910D-2095FB4E75D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749680" y="2225520"/>
            <a:ext cx="1549440" cy="247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42720" y="1547640"/>
            <a:ext cx="3047760" cy="3831480"/>
            <a:chOff x="1242720" y="1547640"/>
            <a:chExt cx="3047760" cy="3831480"/>
          </a:xfrm>
        </p:grpSpPr>
        <p:sp>
          <p:nvSpPr>
            <p:cNvPr id="130" name=""/>
            <p:cNvSpPr/>
            <p:nvPr/>
          </p:nvSpPr>
          <p:spPr>
            <a:xfrm flipV="1">
              <a:off x="1243080" y="154944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243080" y="402984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43080" y="154764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43080" y="402732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43080" y="2148840"/>
              <a:ext cx="0" cy="255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242720" y="4703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242720" y="22237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19240" y="6094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WAL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14800" y="1557360"/>
            <a:ext cx="358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lcem nazywamy bryłę obrotową  powstałą   przez obrót  prostokąta   dookoła prostej  zawierającej jeden z boków prostoką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831960" y="2951280"/>
            <a:ext cx="69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39920" y="2181240"/>
            <a:ext cx="2038320" cy="2802600"/>
            <a:chOff x="2239920" y="2181240"/>
            <a:chExt cx="2038320" cy="2802600"/>
          </a:xfrm>
        </p:grpSpPr>
        <p:grpSp>
          <p:nvGrpSpPr>
            <p:cNvPr id="142" name=""/>
            <p:cNvGrpSpPr/>
            <p:nvPr/>
          </p:nvGrpSpPr>
          <p:grpSpPr>
            <a:xfrm>
              <a:off x="2754360" y="2181240"/>
              <a:ext cx="1523880" cy="2509200"/>
              <a:chOff x="2754360" y="2181240"/>
              <a:chExt cx="1523880" cy="2509200"/>
            </a:xfrm>
          </p:grpSpPr>
          <p:sp>
            <p:nvSpPr>
              <p:cNvPr id="143" name=""/>
              <p:cNvSpPr/>
              <p:nvPr/>
            </p:nvSpPr>
            <p:spPr>
              <a:xfrm>
                <a:off x="2754360" y="2181240"/>
                <a:ext cx="0" cy="246096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54360" y="4690440"/>
                <a:ext cx="1523880" cy="0"/>
              </a:xfrm>
              <a:prstGeom prst="line">
                <a:avLst/>
              </a:prstGeom>
              <a:ln w="1908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239920" y="3269880"/>
              <a:ext cx="1536480" cy="1713960"/>
              <a:chOff x="2239920" y="3269880"/>
              <a:chExt cx="1536480" cy="1713960"/>
            </a:xfrm>
          </p:grpSpPr>
          <p:sp>
            <p:nvSpPr>
              <p:cNvPr id="146" name=""/>
              <p:cNvSpPr/>
              <p:nvPr/>
            </p:nvSpPr>
            <p:spPr>
              <a:xfrm>
                <a:off x="2239920" y="32698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71600" y="4615560"/>
                <a:ext cx="60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2411280" y="1201680"/>
            <a:ext cx="685440" cy="5828040"/>
            <a:chOff x="2411280" y="1201680"/>
            <a:chExt cx="685440" cy="5828040"/>
          </a:xfrm>
        </p:grpSpPr>
        <p:sp>
          <p:nvSpPr>
            <p:cNvPr id="149" name=""/>
            <p:cNvSpPr/>
            <p:nvPr/>
          </p:nvSpPr>
          <p:spPr>
            <a:xfrm>
              <a:off x="2757600" y="1201680"/>
              <a:ext cx="0" cy="518796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5437440"/>
              <a:ext cx="685440" cy="32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83" y="4957"/>
                  </a:moveTo>
                  <a:arcTo wR="10800" hR="10800" stAng="-1965345" swAng="16294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83" y="4957"/>
                  </a:moveTo>
                  <a:arcTo wR="10800" hR="10800" stAng="-1965345" swAng="16294392"/>
                </a:path>
              </a:pathLst>
            </a:custGeom>
            <a:noFill/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087200">
              <a:off x="1692360" y="5869800"/>
              <a:ext cx="194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0000"/>
                  </a:solidFill>
                  <a:latin typeface="Times New Roman"/>
                </a:rPr>
                <a:t>oś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173400" y="4987800"/>
            <a:ext cx="2355840" cy="1112040"/>
            <a:chOff x="3173400" y="4987800"/>
            <a:chExt cx="2355840" cy="1112040"/>
          </a:xfrm>
        </p:grpSpPr>
        <p:sp>
          <p:nvSpPr>
            <p:cNvPr id="153" name=""/>
            <p:cNvSpPr/>
            <p:nvPr/>
          </p:nvSpPr>
          <p:spPr>
            <a:xfrm>
              <a:off x="3173400" y="5762520"/>
              <a:ext cx="235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49520" y="4987800"/>
              <a:ext cx="166680" cy="10670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16200" y="6054840"/>
              <a:ext cx="14400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31920" y="3563640"/>
            <a:ext cx="2120760" cy="431280"/>
            <a:chOff x="331920" y="3563640"/>
            <a:chExt cx="2120760" cy="431280"/>
          </a:xfrm>
        </p:grpSpPr>
        <p:sp>
          <p:nvSpPr>
            <p:cNvPr id="157" name=""/>
            <p:cNvSpPr/>
            <p:nvPr/>
          </p:nvSpPr>
          <p:spPr>
            <a:xfrm>
              <a:off x="331920" y="3657600"/>
              <a:ext cx="166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wysokość walc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0360" y="3948120"/>
              <a:ext cx="14270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787400" y="3563640"/>
              <a:ext cx="665280" cy="384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57F-3420-4F04-B1F7-05E8BFD830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768240" y="1341360"/>
            <a:ext cx="4067280" cy="2948040"/>
            <a:chOff x="768240" y="1341360"/>
            <a:chExt cx="4067280" cy="2948040"/>
          </a:xfrm>
        </p:grpSpPr>
        <p:grpSp>
          <p:nvGrpSpPr>
            <p:cNvPr id="161" name=""/>
            <p:cNvGrpSpPr/>
            <p:nvPr/>
          </p:nvGrpSpPr>
          <p:grpSpPr>
            <a:xfrm>
              <a:off x="768240" y="1341360"/>
              <a:ext cx="4067280" cy="2948040"/>
              <a:chOff x="768240" y="1341360"/>
              <a:chExt cx="4067280" cy="2948040"/>
            </a:xfrm>
          </p:grpSpPr>
          <p:sp>
            <p:nvSpPr>
              <p:cNvPr id="162" name=""/>
              <p:cNvSpPr/>
              <p:nvPr/>
            </p:nvSpPr>
            <p:spPr>
              <a:xfrm>
                <a:off x="768240" y="2171520"/>
                <a:ext cx="4067280" cy="12812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79640" y="1341360"/>
                <a:ext cx="911160" cy="8208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01600" y="3468600"/>
                <a:ext cx="912960" cy="8208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19320" y="1365120"/>
                <a:ext cx="36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73240" y="3479760"/>
                <a:ext cx="54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1143000" y="1554120"/>
              <a:ext cx="382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73240" y="3657600"/>
              <a:ext cx="38268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1473120" y="1682640"/>
                  <a:ext cx="127080" cy="1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479600" y="3800520"/>
                  <a:ext cx="136440" cy="13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171" name=""/>
          <p:cNvSpPr/>
          <p:nvPr/>
        </p:nvSpPr>
        <p:spPr>
          <a:xfrm>
            <a:off x="1214280" y="457200"/>
            <a:ext cx="67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iatka wal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55640" y="2666880"/>
            <a:ext cx="2135160" cy="816120"/>
            <a:chOff x="755640" y="2666880"/>
            <a:chExt cx="2135160" cy="816120"/>
          </a:xfrm>
        </p:grpSpPr>
        <p:sp>
          <p:nvSpPr>
            <p:cNvPr id="173" name=""/>
            <p:cNvSpPr/>
            <p:nvPr/>
          </p:nvSpPr>
          <p:spPr>
            <a:xfrm>
              <a:off x="755640" y="266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2440080" y="3168720"/>
                  <a:ext cx="45072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5" name=""/>
          <p:cNvGrpSpPr/>
          <p:nvPr/>
        </p:nvGrpSpPr>
        <p:grpSpPr>
          <a:xfrm>
            <a:off x="1822320" y="4395960"/>
            <a:ext cx="7320960" cy="1628280"/>
            <a:chOff x="1822320" y="4395960"/>
            <a:chExt cx="7320960" cy="1628280"/>
          </a:xfrm>
        </p:grpSpPr>
        <p:sp>
          <p:nvSpPr>
            <p:cNvPr id="176" name=""/>
            <p:cNvSpPr/>
            <p:nvPr/>
          </p:nvSpPr>
          <p:spPr>
            <a:xfrm>
              <a:off x="1890000" y="4395960"/>
              <a:ext cx="72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Pole powierzchni całkowitej walc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1822320" y="5011560"/>
                  <a:ext cx="567684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4308480" y="2523960"/>
            <a:ext cx="3635280" cy="337320"/>
            <a:chOff x="4308480" y="2523960"/>
            <a:chExt cx="3635280" cy="337320"/>
          </a:xfrm>
        </p:grpSpPr>
        <p:sp>
          <p:nvSpPr>
            <p:cNvPr id="179" name=""/>
            <p:cNvSpPr/>
            <p:nvPr/>
          </p:nvSpPr>
          <p:spPr>
            <a:xfrm>
              <a:off x="5059440" y="2523960"/>
              <a:ext cx="28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wierzchnia boczna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08480" y="2719440"/>
              <a:ext cx="66996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57520" y="1546200"/>
            <a:ext cx="2912760" cy="2548800"/>
            <a:chOff x="1757520" y="1546200"/>
            <a:chExt cx="2912760" cy="2548800"/>
          </a:xfrm>
        </p:grpSpPr>
        <p:sp>
          <p:nvSpPr>
            <p:cNvPr id="182" name=""/>
            <p:cNvSpPr/>
            <p:nvPr/>
          </p:nvSpPr>
          <p:spPr>
            <a:xfrm>
              <a:off x="2422440" y="1546200"/>
              <a:ext cx="224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dstawa górna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49360" y="375768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dstawa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dolna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57520" y="1708200"/>
              <a:ext cx="70308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73360" y="3914640"/>
              <a:ext cx="5918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F011-3263-45C7-89DB-48E6150B9F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343400" y="628560"/>
            <a:ext cx="4495680" cy="62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5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58"/>
                </a:solidFill>
                <a:latin typeface="Monotype Corsiva"/>
              </a:rPr>
              <a:t>Przekrojem osiowym walca jest prostokąt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3300"/>
                </a:solidFill>
                <a:latin typeface="Monotype Corsiva"/>
              </a:rPr>
              <a:t>r </a:t>
            </a:r>
            <a:r>
              <a:rPr b="1" lang="en-US" sz="39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1" lang="en-US" sz="3900" spc="-1" strike="noStrike">
                <a:solidFill>
                  <a:srgbClr val="000058"/>
                </a:solidFill>
                <a:latin typeface="Monotype Corsiva"/>
              </a:rPr>
              <a:t>promień podstawy walca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9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900" spc="-1" strike="noStrike">
                <a:solidFill>
                  <a:srgbClr val="000058"/>
                </a:solidFill>
                <a:latin typeface="Monotype Corsiva"/>
              </a:rPr>
              <a:t>wysokość walca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066680"/>
          <a:ext cx="38098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38098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143000" y="1981080"/>
            <a:ext cx="2590920" cy="5335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3886200"/>
            <a:ext cx="2590920" cy="5335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286000"/>
            <a:ext cx="259092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285640" y="1009800"/>
            <a:ext cx="2095560" cy="2571480"/>
          </a:xfrm>
          <a:prstGeom prst="line">
            <a:avLst/>
          </a:prstGeom>
          <a:ln w="9360">
            <a:solidFill>
              <a:srgbClr val="dc00d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09160" y="3962520"/>
            <a:ext cx="61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3300"/>
                </a:solidFill>
                <a:latin typeface="Monotype Corsiva"/>
              </a:rPr>
              <a:t>2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02120" y="281160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178-2F0A-40B1-9DC4-2222B3A058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00"/>
                </a:solidFill>
                <a:uFillTx/>
                <a:latin typeface="Times New Roman"/>
              </a:rPr>
              <a:t>ZADANIE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8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Oblicz pole przekroju osiow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walca o wysokości  15 dm i po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podstawy 25</a:t>
            </a:r>
            <a:r>
              <a:rPr b="1" lang="pl-PL" sz="4400" spc="-1" strike="noStrike">
                <a:solidFill>
                  <a:srgbClr val="990099"/>
                </a:solidFill>
                <a:latin typeface="UniversalMath1 BT"/>
                <a:ea typeface="UniversalMath1 BT"/>
              </a:rPr>
              <a:t></a:t>
            </a: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 dm</a:t>
            </a:r>
            <a:r>
              <a:rPr b="1" lang="pl-PL" sz="4400" spc="-1" strike="noStrike" baseline="30000">
                <a:solidFill>
                  <a:srgbClr val="990099"/>
                </a:solidFill>
                <a:latin typeface="Times New Roman"/>
              </a:rPr>
              <a:t>2</a:t>
            </a: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3300"/>
                </a:solidFill>
                <a:latin typeface="Times New Roman"/>
              </a:rPr>
              <a:t>Dane: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 = 25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H = 15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C23-4A0F-4C49-921E-ED73519EFB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Times New Roman"/>
              </a:rPr>
              <a:t>ROZWIĄZANIE DO ZADANIA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pl-PL" sz="3100" spc="-1" strike="noStrike">
                <a:solidFill>
                  <a:srgbClr val="ff3300"/>
                </a:solidFill>
                <a:latin typeface="Times New Roman"/>
              </a:rPr>
              <a:t>Dane: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 = 25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H = 15 d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Times New Roman"/>
              </a:rPr>
              <a:t>Szukane: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Ppo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Times New Roman"/>
              </a:rPr>
              <a:t>Rozwiązanie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:    Pp = 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    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o = 2r 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25 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= 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    Ppo = 10 dm 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15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= 25 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              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o = 150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                  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r = 5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Odp: Pole przekroju osiowego walca wynosi 150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585-E7EA-4641-9AF0-D240A0E240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Objętość walc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1185840"/>
            <a:ext cx="7241400" cy="1941840"/>
            <a:chOff x="0" y="1185840"/>
            <a:chExt cx="7241400" cy="1941840"/>
          </a:xfrm>
        </p:grpSpPr>
        <p:sp>
          <p:nvSpPr>
            <p:cNvPr id="201" name=""/>
            <p:cNvSpPr/>
            <p:nvPr/>
          </p:nvSpPr>
          <p:spPr>
            <a:xfrm>
              <a:off x="1595520" y="1185840"/>
              <a:ext cx="445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0" y="1563840"/>
              <a:ext cx="7241400" cy="1563840"/>
              <a:chOff x="0" y="1563840"/>
              <a:chExt cx="7241400" cy="156384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1563840"/>
                <a:ext cx="7241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4" name=""/>
                  <p:cNvSpPr txBox="1"/>
                  <p:nvPr/>
                </p:nvSpPr>
                <p:spPr>
                  <a:xfrm>
                    <a:off x="1419840" y="1996200"/>
                    <a:ext cx="4698000" cy="113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H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05" name=""/>
          <p:cNvSpPr/>
          <p:nvPr/>
        </p:nvSpPr>
        <p:spPr>
          <a:xfrm>
            <a:off x="3514680" y="3162240"/>
            <a:ext cx="1886040" cy="25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130-1570-485E-8A6D-49EC0BEB74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3:24:31Z</dcterms:created>
  <dc:creator>M.J.Popik</dc:creator>
  <dc:description/>
  <dc:language>en-US</dc:language>
  <cp:lastModifiedBy>Matematyka</cp:lastModifiedBy>
  <dcterms:modified xsi:type="dcterms:W3CDTF">2014-03-01T19:01:24Z</dcterms:modified>
  <cp:revision>220</cp:revision>
  <dc:subject/>
  <dc:title>Prezentacja programu PowerPoint</dc:title>
</cp:coreProperties>
</file>